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12192000" cy="6858000"/>
  <p:notesSz cx="9309100" cy="6954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580" spc="-1" strike="noStrike">
                <a:solidFill>
                  <a:srgbClr val="13161e"/>
                </a:solidFill>
                <a:latin typeface="Microsoft Sans Serif"/>
              </a:rPr>
              <a:t>Click to move the slide</a:t>
            </a:r>
            <a:endParaRPr b="0" lang="en-US" sz="1580" spc="-1" strike="noStrike">
              <a:solidFill>
                <a:srgbClr val="13161e"/>
              </a:solidFill>
              <a:latin typeface="Microsoft Sans Serif"/>
            </a:endParaRPr>
          </a:p>
        </p:txBody>
      </p:sp>
      <p:sp>
        <p:nvSpPr>
          <p:cNvPr id="1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6" name="PlaceHolder 4"/>
          <p:cNvSpPr>
            <a:spLocks noGrp="1"/>
          </p:cNvSpPr>
          <p:nvPr>
            <p:ph type="dt" idx="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7" name="PlaceHolder 5"/>
          <p:cNvSpPr>
            <a:spLocks noGrp="1"/>
          </p:cNvSpPr>
          <p:nvPr>
            <p:ph type="ftr" idx="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8" name="PlaceHolder 6"/>
          <p:cNvSpPr>
            <a:spLocks noGrp="1"/>
          </p:cNvSpPr>
          <p:nvPr>
            <p:ph type="sldNum" idx="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E6F10F9-F0D5-4509-A589-680593D49F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46080" y="555480"/>
            <a:ext cx="4963680" cy="2792160"/>
          </a:xfrm>
          <a:prstGeom prst="rect">
            <a:avLst/>
          </a:prstGeom>
          <a:ln w="0">
            <a:noFill/>
          </a:ln>
        </p:spPr>
      </p:sp>
      <p:sp>
        <p:nvSpPr>
          <p:cNvPr id="217"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18" name="PlaceHolder 3"/>
          <p:cNvSpPr>
            <a:spLocks noGrp="1"/>
          </p:cNvSpPr>
          <p:nvPr>
            <p:ph type="sldNum" idx="13"/>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8074145E-F586-418E-8058-F03B5183EB7D}"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46080" y="555480"/>
            <a:ext cx="4963680" cy="2792160"/>
          </a:xfrm>
          <a:prstGeom prst="rect">
            <a:avLst/>
          </a:prstGeom>
          <a:ln w="0">
            <a:noFill/>
          </a:ln>
        </p:spPr>
      </p:sp>
      <p:sp>
        <p:nvSpPr>
          <p:cNvPr id="220"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21" name="PlaceHolder 3"/>
          <p:cNvSpPr>
            <a:spLocks noGrp="1"/>
          </p:cNvSpPr>
          <p:nvPr>
            <p:ph type="sldNum" idx="14"/>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AE6B8E0E-0A25-419F-815A-35BD0F8B2753}"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46080" y="555480"/>
            <a:ext cx="4963680" cy="2792160"/>
          </a:xfrm>
          <a:prstGeom prst="rect">
            <a:avLst/>
          </a:prstGeom>
          <a:ln w="0">
            <a:noFill/>
          </a:ln>
        </p:spPr>
      </p:sp>
      <p:sp>
        <p:nvSpPr>
          <p:cNvPr id="223"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24" name="PlaceHolder 3"/>
          <p:cNvSpPr>
            <a:spLocks noGrp="1"/>
          </p:cNvSpPr>
          <p:nvPr>
            <p:ph type="sldNum" idx="15"/>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FDF5744F-E03E-4E1A-B56A-305EC68DCE9C}"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46080" y="555480"/>
            <a:ext cx="4963680" cy="2792160"/>
          </a:xfrm>
          <a:prstGeom prst="rect">
            <a:avLst/>
          </a:prstGeom>
          <a:ln w="0">
            <a:noFill/>
          </a:ln>
        </p:spPr>
      </p:sp>
      <p:sp>
        <p:nvSpPr>
          <p:cNvPr id="193"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194" name="PlaceHolder 3"/>
          <p:cNvSpPr>
            <a:spLocks noGrp="1"/>
          </p:cNvSpPr>
          <p:nvPr>
            <p:ph type="sldNum" idx="5"/>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EA1D8D39-08CC-4A77-917F-ABF02C0046BA}"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46080" y="555480"/>
            <a:ext cx="4963680" cy="2792160"/>
          </a:xfrm>
          <a:prstGeom prst="rect">
            <a:avLst/>
          </a:prstGeom>
          <a:ln w="0">
            <a:noFill/>
          </a:ln>
        </p:spPr>
      </p:sp>
      <p:sp>
        <p:nvSpPr>
          <p:cNvPr id="196"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197" name="PlaceHolder 3"/>
          <p:cNvSpPr>
            <a:spLocks noGrp="1"/>
          </p:cNvSpPr>
          <p:nvPr>
            <p:ph type="sldNum" idx="6"/>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DED3B19A-E156-4C3F-84C6-BE3AB7E7CA11}"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46080" y="555480"/>
            <a:ext cx="4963680" cy="2792160"/>
          </a:xfrm>
          <a:prstGeom prst="rect">
            <a:avLst/>
          </a:prstGeom>
          <a:ln w="0">
            <a:noFill/>
          </a:ln>
        </p:spPr>
      </p:sp>
      <p:sp>
        <p:nvSpPr>
          <p:cNvPr id="199"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00" name="PlaceHolder 3"/>
          <p:cNvSpPr>
            <a:spLocks noGrp="1"/>
          </p:cNvSpPr>
          <p:nvPr>
            <p:ph type="sldNum" idx="7"/>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FA5111C8-E87D-41F1-A7DA-E6E708F2BA00}"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46080" y="555480"/>
            <a:ext cx="4963680" cy="2792160"/>
          </a:xfrm>
          <a:prstGeom prst="rect">
            <a:avLst/>
          </a:prstGeom>
          <a:ln w="0">
            <a:noFill/>
          </a:ln>
        </p:spPr>
      </p:sp>
      <p:sp>
        <p:nvSpPr>
          <p:cNvPr id="202"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03" name="PlaceHolder 3"/>
          <p:cNvSpPr>
            <a:spLocks noGrp="1"/>
          </p:cNvSpPr>
          <p:nvPr>
            <p:ph type="sldNum" idx="8"/>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08C11B12-D072-4631-9F7B-E0DEFB33FD23}"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46080" y="555480"/>
            <a:ext cx="4963680" cy="2792160"/>
          </a:xfrm>
          <a:prstGeom prst="rect">
            <a:avLst/>
          </a:prstGeom>
          <a:ln w="0">
            <a:noFill/>
          </a:ln>
        </p:spPr>
      </p:sp>
      <p:sp>
        <p:nvSpPr>
          <p:cNvPr id="205"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06" name="PlaceHolder 3"/>
          <p:cNvSpPr>
            <a:spLocks noGrp="1"/>
          </p:cNvSpPr>
          <p:nvPr>
            <p:ph type="sldNum" idx="9"/>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93FB6670-5797-454B-B2FB-DD8D83AE4F6F}"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46080" y="555480"/>
            <a:ext cx="4963680" cy="2792160"/>
          </a:xfrm>
          <a:prstGeom prst="rect">
            <a:avLst/>
          </a:prstGeom>
          <a:ln w="0">
            <a:noFill/>
          </a:ln>
        </p:spPr>
      </p:sp>
      <p:sp>
        <p:nvSpPr>
          <p:cNvPr id="208"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09" name="PlaceHolder 3"/>
          <p:cNvSpPr>
            <a:spLocks noGrp="1"/>
          </p:cNvSpPr>
          <p:nvPr>
            <p:ph type="sldNum" idx="10"/>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A600DB87-11B2-497F-8CF1-FDC1AE3436A3}"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46080" y="555480"/>
            <a:ext cx="4963680" cy="2792160"/>
          </a:xfrm>
          <a:prstGeom prst="rect">
            <a:avLst/>
          </a:prstGeom>
          <a:ln w="0">
            <a:noFill/>
          </a:ln>
        </p:spPr>
      </p:sp>
      <p:sp>
        <p:nvSpPr>
          <p:cNvPr id="211"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12" name="PlaceHolder 3"/>
          <p:cNvSpPr>
            <a:spLocks noGrp="1"/>
          </p:cNvSpPr>
          <p:nvPr>
            <p:ph type="sldNum" idx="11"/>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B520BFE7-9386-4754-9104-E6A46F569C06}"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46080" y="555480"/>
            <a:ext cx="4963680" cy="2792160"/>
          </a:xfrm>
          <a:prstGeom prst="rect">
            <a:avLst/>
          </a:prstGeom>
          <a:ln w="0">
            <a:noFill/>
          </a:ln>
        </p:spPr>
      </p:sp>
      <p:sp>
        <p:nvSpPr>
          <p:cNvPr id="214"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15" name="PlaceHolder 3"/>
          <p:cNvSpPr>
            <a:spLocks noGrp="1"/>
          </p:cNvSpPr>
          <p:nvPr>
            <p:ph type="sldNum" idx="12"/>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AD8B88ED-839B-4693-85DA-3879A305AA02}"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0"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1"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6"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8"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9"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0"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1"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2"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3"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6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6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8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0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2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2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2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3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3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2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4"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2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8"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0" name="TextBox 97" hidden="1"/>
          <p:cNvSpPr/>
          <p:nvPr/>
        </p:nvSpPr>
        <p:spPr>
          <a:xfrm>
            <a:off x="11329920" y="6477840"/>
            <a:ext cx="375840" cy="183600"/>
          </a:xfrm>
          <a:prstGeom prst="rect">
            <a:avLst/>
          </a:prstGeom>
          <a:noFill/>
          <a:ln w="0">
            <a:noFill/>
          </a:ln>
        </p:spPr>
        <p:style>
          <a:lnRef idx="0"/>
          <a:fillRef idx="0"/>
          <a:effectRef idx="0"/>
          <a:fontRef idx="minor"/>
        </p:style>
        <p:txBody>
          <a:bodyPr lIns="18360" rIns="18360" tIns="0" bIns="9000" anchor="b">
            <a:spAutoFit/>
          </a:bodyPr>
          <a:p>
            <a:pPr algn="r">
              <a:lnSpc>
                <a:spcPct val="125000"/>
              </a:lnSpc>
            </a:pPr>
            <a:fld id="{82DF07D9-E0A4-4F0C-8FCB-C4888DE99115}" type="slidenum">
              <a:rPr b="0" lang="en-US" sz="800" spc="-1" strike="noStrike">
                <a:solidFill>
                  <a:schemeClr val="accent6">
                    <a:lumMod val="75000"/>
                  </a:schemeClr>
                </a:solidFill>
                <a:latin typeface="Microsoft Sans Serif"/>
              </a:rPr>
              <a:t>&lt;number&gt;</a:t>
            </a:fld>
            <a:endParaRPr b="0" lang="en-US" sz="800" spc="-1" strike="noStrike">
              <a:solidFill>
                <a:srgbClr val="000000"/>
              </a:solidFill>
              <a:latin typeface="Arial"/>
            </a:endParaRPr>
          </a:p>
        </p:txBody>
      </p:sp>
      <p:sp>
        <p:nvSpPr>
          <p:cNvPr id="1" name="Freeform 5"/>
          <p:cNvSpPr/>
          <p:nvPr/>
        </p:nvSpPr>
        <p:spPr>
          <a:xfrm>
            <a:off x="482400" y="348840"/>
            <a:ext cx="1432800" cy="262440"/>
          </a:xfrm>
          <a:custGeom>
            <a:avLst/>
            <a:gdLst>
              <a:gd name="textAreaLeft" fmla="*/ 0 w 1432800"/>
              <a:gd name="textAreaRight" fmla="*/ 1433160 w 1432800"/>
              <a:gd name="textAreaTop" fmla="*/ 0 h 262440"/>
              <a:gd name="textAreaBottom" fmla="*/ 262800 h 262440"/>
            </a:gdLst>
            <a:ahLst/>
            <a:rect l="textAreaLeft" t="textAreaTop" r="textAreaRight" b="textAreaBottom"/>
            <a:pathLst>
              <a:path w="8006" h="1470">
                <a:moveTo>
                  <a:pt x="2159" y="421"/>
                </a:moveTo>
                <a:cubicBezTo>
                  <a:pt x="2180" y="421"/>
                  <a:pt x="2199" y="438"/>
                  <a:pt x="2199" y="461"/>
                </a:cubicBezTo>
                <a:cubicBezTo>
                  <a:pt x="2199" y="1222"/>
                  <a:pt x="2199" y="1222"/>
                  <a:pt x="2199" y="1222"/>
                </a:cubicBezTo>
                <a:cubicBezTo>
                  <a:pt x="2199" y="1243"/>
                  <a:pt x="2180" y="1260"/>
                  <a:pt x="2159" y="1260"/>
                </a:cubicBezTo>
                <a:cubicBezTo>
                  <a:pt x="2056" y="1260"/>
                  <a:pt x="2056" y="1260"/>
                  <a:pt x="2056" y="1260"/>
                </a:cubicBezTo>
                <a:cubicBezTo>
                  <a:pt x="2036" y="1260"/>
                  <a:pt x="2017" y="1244"/>
                  <a:pt x="2017" y="1223"/>
                </a:cubicBezTo>
                <a:cubicBezTo>
                  <a:pt x="2017" y="1153"/>
                  <a:pt x="2017" y="1153"/>
                  <a:pt x="2017" y="1153"/>
                </a:cubicBezTo>
                <a:cubicBezTo>
                  <a:pt x="1965" y="1230"/>
                  <a:pt x="1876" y="1283"/>
                  <a:pt x="1745" y="1283"/>
                </a:cubicBezTo>
                <a:cubicBezTo>
                  <a:pt x="1526" y="1283"/>
                  <a:pt x="1391" y="1138"/>
                  <a:pt x="1391" y="923"/>
                </a:cubicBezTo>
                <a:cubicBezTo>
                  <a:pt x="1391" y="460"/>
                  <a:pt x="1391" y="460"/>
                  <a:pt x="1391" y="460"/>
                </a:cubicBezTo>
                <a:cubicBezTo>
                  <a:pt x="1391" y="438"/>
                  <a:pt x="1411" y="421"/>
                  <a:pt x="1432" y="421"/>
                </a:cubicBezTo>
                <a:cubicBezTo>
                  <a:pt x="1535" y="421"/>
                  <a:pt x="1535" y="421"/>
                  <a:pt x="1535" y="421"/>
                </a:cubicBezTo>
                <a:cubicBezTo>
                  <a:pt x="1556" y="421"/>
                  <a:pt x="1573" y="438"/>
                  <a:pt x="1573" y="460"/>
                </a:cubicBezTo>
                <a:cubicBezTo>
                  <a:pt x="1573" y="893"/>
                  <a:pt x="1573" y="893"/>
                  <a:pt x="1573" y="893"/>
                </a:cubicBezTo>
                <a:cubicBezTo>
                  <a:pt x="1573" y="1033"/>
                  <a:pt x="1647" y="1125"/>
                  <a:pt x="1792" y="1125"/>
                </a:cubicBezTo>
                <a:cubicBezTo>
                  <a:pt x="1933" y="1125"/>
                  <a:pt x="2017" y="1029"/>
                  <a:pt x="2017" y="895"/>
                </a:cubicBezTo>
                <a:cubicBezTo>
                  <a:pt x="2017" y="460"/>
                  <a:pt x="2017" y="460"/>
                  <a:pt x="2017" y="460"/>
                </a:cubicBezTo>
                <a:cubicBezTo>
                  <a:pt x="2017" y="438"/>
                  <a:pt x="2036" y="421"/>
                  <a:pt x="2056" y="421"/>
                </a:cubicBezTo>
                <a:cubicBezTo>
                  <a:pt x="2159" y="421"/>
                  <a:pt x="2159" y="421"/>
                  <a:pt x="2159" y="421"/>
                </a:cubicBezTo>
                <a:moveTo>
                  <a:pt x="638" y="0"/>
                </a:moveTo>
                <a:cubicBezTo>
                  <a:pt x="285" y="0"/>
                  <a:pt x="0" y="274"/>
                  <a:pt x="0" y="641"/>
                </a:cubicBezTo>
                <a:cubicBezTo>
                  <a:pt x="0" y="1008"/>
                  <a:pt x="285" y="1283"/>
                  <a:pt x="638" y="1283"/>
                </a:cubicBezTo>
                <a:cubicBezTo>
                  <a:pt x="698" y="1283"/>
                  <a:pt x="757" y="1275"/>
                  <a:pt x="812" y="1260"/>
                </a:cubicBezTo>
                <a:cubicBezTo>
                  <a:pt x="881" y="1438"/>
                  <a:pt x="881" y="1438"/>
                  <a:pt x="881" y="1438"/>
                </a:cubicBezTo>
                <a:cubicBezTo>
                  <a:pt x="888" y="1458"/>
                  <a:pt x="902" y="1470"/>
                  <a:pt x="928" y="1470"/>
                </a:cubicBezTo>
                <a:cubicBezTo>
                  <a:pt x="1038" y="1470"/>
                  <a:pt x="1038" y="1470"/>
                  <a:pt x="1038" y="1470"/>
                </a:cubicBezTo>
                <a:cubicBezTo>
                  <a:pt x="1064" y="1470"/>
                  <a:pt x="1084" y="1452"/>
                  <a:pt x="1071" y="1419"/>
                </a:cubicBezTo>
                <a:cubicBezTo>
                  <a:pt x="982" y="1185"/>
                  <a:pt x="982" y="1185"/>
                  <a:pt x="982" y="1185"/>
                </a:cubicBezTo>
                <a:cubicBezTo>
                  <a:pt x="1159" y="1074"/>
                  <a:pt x="1276" y="877"/>
                  <a:pt x="1276" y="641"/>
                </a:cubicBezTo>
                <a:cubicBezTo>
                  <a:pt x="1276" y="274"/>
                  <a:pt x="991" y="0"/>
                  <a:pt x="638" y="0"/>
                </a:cubicBezTo>
                <a:moveTo>
                  <a:pt x="916" y="1013"/>
                </a:moveTo>
                <a:cubicBezTo>
                  <a:pt x="835" y="804"/>
                  <a:pt x="835" y="804"/>
                  <a:pt x="835" y="804"/>
                </a:cubicBezTo>
                <a:cubicBezTo>
                  <a:pt x="828" y="786"/>
                  <a:pt x="814" y="771"/>
                  <a:pt x="783" y="771"/>
                </a:cubicBezTo>
                <a:cubicBezTo>
                  <a:pt x="678" y="771"/>
                  <a:pt x="678" y="771"/>
                  <a:pt x="678" y="771"/>
                </a:cubicBezTo>
                <a:cubicBezTo>
                  <a:pt x="652" y="771"/>
                  <a:pt x="631" y="788"/>
                  <a:pt x="643" y="821"/>
                </a:cubicBezTo>
                <a:cubicBezTo>
                  <a:pt x="749" y="1096"/>
                  <a:pt x="749" y="1096"/>
                  <a:pt x="749" y="1096"/>
                </a:cubicBezTo>
                <a:cubicBezTo>
                  <a:pt x="714" y="1105"/>
                  <a:pt x="677" y="1110"/>
                  <a:pt x="638" y="1110"/>
                </a:cubicBezTo>
                <a:cubicBezTo>
                  <a:pt x="379" y="1110"/>
                  <a:pt x="196" y="907"/>
                  <a:pt x="196" y="641"/>
                </a:cubicBezTo>
                <a:cubicBezTo>
                  <a:pt x="196" y="376"/>
                  <a:pt x="379" y="173"/>
                  <a:pt x="638" y="173"/>
                </a:cubicBezTo>
                <a:cubicBezTo>
                  <a:pt x="897" y="173"/>
                  <a:pt x="1080" y="376"/>
                  <a:pt x="1080" y="641"/>
                </a:cubicBezTo>
                <a:cubicBezTo>
                  <a:pt x="1080" y="796"/>
                  <a:pt x="1018" y="929"/>
                  <a:pt x="916" y="1013"/>
                </a:cubicBezTo>
                <a:moveTo>
                  <a:pt x="7997" y="1218"/>
                </a:moveTo>
                <a:cubicBezTo>
                  <a:pt x="8006" y="1239"/>
                  <a:pt x="7995" y="1260"/>
                  <a:pt x="7969" y="1260"/>
                </a:cubicBezTo>
                <a:cubicBezTo>
                  <a:pt x="7854" y="1260"/>
                  <a:pt x="7854" y="1260"/>
                  <a:pt x="7854" y="1260"/>
                </a:cubicBezTo>
                <a:cubicBezTo>
                  <a:pt x="7833" y="1260"/>
                  <a:pt x="7815" y="1250"/>
                  <a:pt x="7808" y="1229"/>
                </a:cubicBezTo>
                <a:cubicBezTo>
                  <a:pt x="7595" y="655"/>
                  <a:pt x="7595" y="655"/>
                  <a:pt x="7595" y="655"/>
                </a:cubicBezTo>
                <a:cubicBezTo>
                  <a:pt x="7378" y="1229"/>
                  <a:pt x="7378" y="1229"/>
                  <a:pt x="7378" y="1229"/>
                </a:cubicBezTo>
                <a:cubicBezTo>
                  <a:pt x="7369" y="1251"/>
                  <a:pt x="7354" y="1260"/>
                  <a:pt x="7333" y="1260"/>
                </a:cubicBezTo>
                <a:cubicBezTo>
                  <a:pt x="7230" y="1260"/>
                  <a:pt x="7230" y="1260"/>
                  <a:pt x="7230" y="1260"/>
                </a:cubicBezTo>
                <a:cubicBezTo>
                  <a:pt x="7209" y="1260"/>
                  <a:pt x="7193" y="1251"/>
                  <a:pt x="7184" y="1229"/>
                </a:cubicBezTo>
                <a:cubicBezTo>
                  <a:pt x="6966" y="652"/>
                  <a:pt x="6966" y="652"/>
                  <a:pt x="6966" y="652"/>
                </a:cubicBezTo>
                <a:cubicBezTo>
                  <a:pt x="6751" y="1229"/>
                  <a:pt x="6751" y="1229"/>
                  <a:pt x="6751" y="1229"/>
                </a:cubicBezTo>
                <a:cubicBezTo>
                  <a:pt x="6742" y="1250"/>
                  <a:pt x="6726" y="1260"/>
                  <a:pt x="6705" y="1260"/>
                </a:cubicBezTo>
                <a:cubicBezTo>
                  <a:pt x="6597" y="1260"/>
                  <a:pt x="6597" y="1260"/>
                  <a:pt x="6597" y="1260"/>
                </a:cubicBezTo>
                <a:cubicBezTo>
                  <a:pt x="6576" y="1260"/>
                  <a:pt x="6560" y="1250"/>
                  <a:pt x="6551" y="1229"/>
                </a:cubicBezTo>
                <a:cubicBezTo>
                  <a:pt x="6338" y="652"/>
                  <a:pt x="6338" y="652"/>
                  <a:pt x="6338" y="652"/>
                </a:cubicBezTo>
                <a:cubicBezTo>
                  <a:pt x="6118" y="1229"/>
                  <a:pt x="6118" y="1229"/>
                  <a:pt x="6118" y="1229"/>
                </a:cubicBezTo>
                <a:cubicBezTo>
                  <a:pt x="6109" y="1251"/>
                  <a:pt x="6093" y="1260"/>
                  <a:pt x="6072" y="1260"/>
                </a:cubicBezTo>
                <a:cubicBezTo>
                  <a:pt x="5969" y="1260"/>
                  <a:pt x="5969" y="1260"/>
                  <a:pt x="5969" y="1260"/>
                </a:cubicBezTo>
                <a:cubicBezTo>
                  <a:pt x="5948" y="1260"/>
                  <a:pt x="5932" y="1251"/>
                  <a:pt x="5924" y="1229"/>
                </a:cubicBezTo>
                <a:cubicBezTo>
                  <a:pt x="5709" y="652"/>
                  <a:pt x="5709" y="652"/>
                  <a:pt x="5709" y="652"/>
                </a:cubicBezTo>
                <a:cubicBezTo>
                  <a:pt x="5494" y="1229"/>
                  <a:pt x="5494" y="1229"/>
                  <a:pt x="5494" y="1229"/>
                </a:cubicBezTo>
                <a:cubicBezTo>
                  <a:pt x="5487" y="1250"/>
                  <a:pt x="5469" y="1260"/>
                  <a:pt x="5448" y="1260"/>
                </a:cubicBezTo>
                <a:cubicBezTo>
                  <a:pt x="5336" y="1260"/>
                  <a:pt x="5336" y="1260"/>
                  <a:pt x="5336" y="1260"/>
                </a:cubicBezTo>
                <a:cubicBezTo>
                  <a:pt x="5310" y="1260"/>
                  <a:pt x="5300" y="1239"/>
                  <a:pt x="5308" y="1218"/>
                </a:cubicBezTo>
                <a:cubicBezTo>
                  <a:pt x="5600" y="454"/>
                  <a:pt x="5600" y="454"/>
                  <a:pt x="5600" y="454"/>
                </a:cubicBezTo>
                <a:cubicBezTo>
                  <a:pt x="5609" y="432"/>
                  <a:pt x="5625" y="421"/>
                  <a:pt x="5646" y="421"/>
                </a:cubicBezTo>
                <a:cubicBezTo>
                  <a:pt x="5772" y="421"/>
                  <a:pt x="5772" y="421"/>
                  <a:pt x="5772" y="421"/>
                </a:cubicBezTo>
                <a:cubicBezTo>
                  <a:pt x="5793" y="421"/>
                  <a:pt x="5808" y="432"/>
                  <a:pt x="5817" y="454"/>
                </a:cubicBezTo>
                <a:cubicBezTo>
                  <a:pt x="6023" y="1012"/>
                  <a:pt x="6023" y="1012"/>
                  <a:pt x="6023" y="1012"/>
                </a:cubicBezTo>
                <a:cubicBezTo>
                  <a:pt x="6231" y="454"/>
                  <a:pt x="6231" y="454"/>
                  <a:pt x="6231" y="454"/>
                </a:cubicBezTo>
                <a:cubicBezTo>
                  <a:pt x="6240" y="432"/>
                  <a:pt x="6256" y="421"/>
                  <a:pt x="6277" y="421"/>
                </a:cubicBezTo>
                <a:cubicBezTo>
                  <a:pt x="6401" y="421"/>
                  <a:pt x="6401" y="421"/>
                  <a:pt x="6401" y="421"/>
                </a:cubicBezTo>
                <a:cubicBezTo>
                  <a:pt x="6422" y="421"/>
                  <a:pt x="6438" y="432"/>
                  <a:pt x="6446" y="454"/>
                </a:cubicBezTo>
                <a:cubicBezTo>
                  <a:pt x="6653" y="1012"/>
                  <a:pt x="6653" y="1012"/>
                  <a:pt x="6653" y="1012"/>
                </a:cubicBezTo>
                <a:cubicBezTo>
                  <a:pt x="6859" y="454"/>
                  <a:pt x="6859" y="454"/>
                  <a:pt x="6859" y="454"/>
                </a:cubicBezTo>
                <a:cubicBezTo>
                  <a:pt x="6868" y="432"/>
                  <a:pt x="6883" y="421"/>
                  <a:pt x="6904" y="421"/>
                </a:cubicBezTo>
                <a:cubicBezTo>
                  <a:pt x="7029" y="421"/>
                  <a:pt x="7029" y="421"/>
                  <a:pt x="7029" y="421"/>
                </a:cubicBezTo>
                <a:cubicBezTo>
                  <a:pt x="7049" y="421"/>
                  <a:pt x="7065" y="432"/>
                  <a:pt x="7074" y="454"/>
                </a:cubicBezTo>
                <a:cubicBezTo>
                  <a:pt x="7284" y="1012"/>
                  <a:pt x="7284" y="1012"/>
                  <a:pt x="7284" y="1012"/>
                </a:cubicBezTo>
                <a:cubicBezTo>
                  <a:pt x="7488" y="454"/>
                  <a:pt x="7488" y="454"/>
                  <a:pt x="7488" y="454"/>
                </a:cubicBezTo>
                <a:cubicBezTo>
                  <a:pt x="7497" y="432"/>
                  <a:pt x="7513" y="421"/>
                  <a:pt x="7534" y="421"/>
                </a:cubicBezTo>
                <a:cubicBezTo>
                  <a:pt x="7660" y="421"/>
                  <a:pt x="7660" y="421"/>
                  <a:pt x="7660" y="421"/>
                </a:cubicBezTo>
                <a:cubicBezTo>
                  <a:pt x="7681" y="421"/>
                  <a:pt x="7696" y="432"/>
                  <a:pt x="7705" y="454"/>
                </a:cubicBezTo>
                <a:cubicBezTo>
                  <a:pt x="7997" y="1218"/>
                  <a:pt x="7997" y="1218"/>
                  <a:pt x="7997" y="1218"/>
                </a:cubicBezTo>
                <a:moveTo>
                  <a:pt x="3159" y="421"/>
                </a:moveTo>
                <a:cubicBezTo>
                  <a:pt x="3055" y="421"/>
                  <a:pt x="3055" y="421"/>
                  <a:pt x="3055" y="421"/>
                </a:cubicBezTo>
                <a:cubicBezTo>
                  <a:pt x="3035" y="421"/>
                  <a:pt x="3015" y="438"/>
                  <a:pt x="3015" y="461"/>
                </a:cubicBezTo>
                <a:cubicBezTo>
                  <a:pt x="3015" y="531"/>
                  <a:pt x="3015" y="531"/>
                  <a:pt x="3015" y="531"/>
                </a:cubicBezTo>
                <a:cubicBezTo>
                  <a:pt x="2963" y="452"/>
                  <a:pt x="2861" y="397"/>
                  <a:pt x="2741" y="397"/>
                </a:cubicBezTo>
                <a:cubicBezTo>
                  <a:pt x="2514" y="397"/>
                  <a:pt x="2318" y="577"/>
                  <a:pt x="2318" y="839"/>
                </a:cubicBezTo>
                <a:cubicBezTo>
                  <a:pt x="2318" y="1105"/>
                  <a:pt x="2514" y="1283"/>
                  <a:pt x="2739" y="1283"/>
                </a:cubicBezTo>
                <a:cubicBezTo>
                  <a:pt x="2861" y="1283"/>
                  <a:pt x="2961" y="1227"/>
                  <a:pt x="3015" y="1148"/>
                </a:cubicBezTo>
                <a:cubicBezTo>
                  <a:pt x="3015" y="1222"/>
                  <a:pt x="3015" y="1222"/>
                  <a:pt x="3015" y="1222"/>
                </a:cubicBezTo>
                <a:cubicBezTo>
                  <a:pt x="3015" y="1243"/>
                  <a:pt x="3035" y="1260"/>
                  <a:pt x="3055" y="1260"/>
                </a:cubicBezTo>
                <a:cubicBezTo>
                  <a:pt x="3159" y="1260"/>
                  <a:pt x="3159" y="1260"/>
                  <a:pt x="3159" y="1260"/>
                </a:cubicBezTo>
                <a:cubicBezTo>
                  <a:pt x="3180" y="1260"/>
                  <a:pt x="3197" y="1243"/>
                  <a:pt x="3197" y="1222"/>
                </a:cubicBezTo>
                <a:cubicBezTo>
                  <a:pt x="3197" y="461"/>
                  <a:pt x="3197" y="461"/>
                  <a:pt x="3197" y="461"/>
                </a:cubicBezTo>
                <a:cubicBezTo>
                  <a:pt x="3197" y="438"/>
                  <a:pt x="3180" y="421"/>
                  <a:pt x="3159" y="421"/>
                </a:cubicBezTo>
                <a:moveTo>
                  <a:pt x="2760" y="1115"/>
                </a:moveTo>
                <a:cubicBezTo>
                  <a:pt x="2610" y="1115"/>
                  <a:pt x="2503" y="993"/>
                  <a:pt x="2503" y="841"/>
                </a:cubicBezTo>
                <a:cubicBezTo>
                  <a:pt x="2503" y="687"/>
                  <a:pt x="2610" y="568"/>
                  <a:pt x="2760" y="568"/>
                </a:cubicBezTo>
                <a:cubicBezTo>
                  <a:pt x="2909" y="568"/>
                  <a:pt x="3017" y="687"/>
                  <a:pt x="3017" y="841"/>
                </a:cubicBezTo>
                <a:cubicBezTo>
                  <a:pt x="3017" y="993"/>
                  <a:pt x="2909" y="1115"/>
                  <a:pt x="2760" y="1115"/>
                </a:cubicBezTo>
                <a:moveTo>
                  <a:pt x="4389" y="1141"/>
                </a:moveTo>
                <a:cubicBezTo>
                  <a:pt x="4412" y="1169"/>
                  <a:pt x="4393" y="1190"/>
                  <a:pt x="4381" y="1199"/>
                </a:cubicBezTo>
                <a:cubicBezTo>
                  <a:pt x="4309" y="1253"/>
                  <a:pt x="4214" y="1283"/>
                  <a:pt x="4111" y="1283"/>
                </a:cubicBezTo>
                <a:cubicBezTo>
                  <a:pt x="3851" y="1283"/>
                  <a:pt x="3678" y="1092"/>
                  <a:pt x="3678" y="841"/>
                </a:cubicBezTo>
                <a:cubicBezTo>
                  <a:pt x="3678" y="589"/>
                  <a:pt x="3851" y="397"/>
                  <a:pt x="4111" y="397"/>
                </a:cubicBezTo>
                <a:cubicBezTo>
                  <a:pt x="4214" y="397"/>
                  <a:pt x="4309" y="426"/>
                  <a:pt x="4381" y="480"/>
                </a:cubicBezTo>
                <a:cubicBezTo>
                  <a:pt x="4393" y="489"/>
                  <a:pt x="4410" y="508"/>
                  <a:pt x="4389" y="538"/>
                </a:cubicBezTo>
                <a:cubicBezTo>
                  <a:pt x="4340" y="606"/>
                  <a:pt x="4340" y="606"/>
                  <a:pt x="4340" y="606"/>
                </a:cubicBezTo>
                <a:cubicBezTo>
                  <a:pt x="4321" y="633"/>
                  <a:pt x="4298" y="626"/>
                  <a:pt x="4279" y="613"/>
                </a:cubicBezTo>
                <a:cubicBezTo>
                  <a:pt x="4234" y="585"/>
                  <a:pt x="4179" y="563"/>
                  <a:pt x="4117" y="563"/>
                </a:cubicBezTo>
                <a:cubicBezTo>
                  <a:pt x="3964" y="563"/>
                  <a:pt x="3863" y="685"/>
                  <a:pt x="3863" y="841"/>
                </a:cubicBezTo>
                <a:cubicBezTo>
                  <a:pt x="3863" y="996"/>
                  <a:pt x="3964" y="1117"/>
                  <a:pt x="4117" y="1117"/>
                </a:cubicBezTo>
                <a:cubicBezTo>
                  <a:pt x="4179" y="1117"/>
                  <a:pt x="4230" y="1092"/>
                  <a:pt x="4276" y="1066"/>
                </a:cubicBezTo>
                <a:cubicBezTo>
                  <a:pt x="4295" y="1056"/>
                  <a:pt x="4316" y="1047"/>
                  <a:pt x="4337" y="1075"/>
                </a:cubicBezTo>
                <a:lnTo>
                  <a:pt x="4389" y="1141"/>
                </a:lnTo>
                <a:close/>
                <a:moveTo>
                  <a:pt x="4875" y="398"/>
                </a:moveTo>
                <a:cubicBezTo>
                  <a:pt x="4630" y="398"/>
                  <a:pt x="4435" y="591"/>
                  <a:pt x="4435" y="841"/>
                </a:cubicBezTo>
                <a:cubicBezTo>
                  <a:pt x="4435" y="1092"/>
                  <a:pt x="4630" y="1283"/>
                  <a:pt x="4875" y="1283"/>
                </a:cubicBezTo>
                <a:cubicBezTo>
                  <a:pt x="5120" y="1283"/>
                  <a:pt x="5316" y="1092"/>
                  <a:pt x="5316" y="841"/>
                </a:cubicBezTo>
                <a:cubicBezTo>
                  <a:pt x="5316" y="591"/>
                  <a:pt x="5120" y="398"/>
                  <a:pt x="4875" y="398"/>
                </a:cubicBezTo>
                <a:moveTo>
                  <a:pt x="4875" y="1113"/>
                </a:moveTo>
                <a:cubicBezTo>
                  <a:pt x="4725" y="1113"/>
                  <a:pt x="4618" y="993"/>
                  <a:pt x="4618" y="841"/>
                </a:cubicBezTo>
                <a:cubicBezTo>
                  <a:pt x="4618" y="687"/>
                  <a:pt x="4725" y="568"/>
                  <a:pt x="4875" y="568"/>
                </a:cubicBezTo>
                <a:cubicBezTo>
                  <a:pt x="5026" y="568"/>
                  <a:pt x="5132" y="687"/>
                  <a:pt x="5132" y="841"/>
                </a:cubicBezTo>
                <a:cubicBezTo>
                  <a:pt x="5132" y="993"/>
                  <a:pt x="5026" y="1113"/>
                  <a:pt x="4875" y="1113"/>
                </a:cubicBezTo>
                <a:moveTo>
                  <a:pt x="3520" y="23"/>
                </a:moveTo>
                <a:cubicBezTo>
                  <a:pt x="3543" y="23"/>
                  <a:pt x="3559" y="42"/>
                  <a:pt x="3559" y="63"/>
                </a:cubicBezTo>
                <a:cubicBezTo>
                  <a:pt x="3559" y="1220"/>
                  <a:pt x="3559" y="1220"/>
                  <a:pt x="3559" y="1220"/>
                </a:cubicBezTo>
                <a:cubicBezTo>
                  <a:pt x="3559" y="1241"/>
                  <a:pt x="3543" y="1260"/>
                  <a:pt x="3520" y="1260"/>
                </a:cubicBezTo>
                <a:cubicBezTo>
                  <a:pt x="3417" y="1260"/>
                  <a:pt x="3417" y="1260"/>
                  <a:pt x="3417" y="1260"/>
                </a:cubicBezTo>
                <a:cubicBezTo>
                  <a:pt x="3396" y="1260"/>
                  <a:pt x="3377" y="1241"/>
                  <a:pt x="3377" y="1220"/>
                </a:cubicBezTo>
                <a:cubicBezTo>
                  <a:pt x="3377" y="63"/>
                  <a:pt x="3377" y="63"/>
                  <a:pt x="3377" y="63"/>
                </a:cubicBezTo>
                <a:cubicBezTo>
                  <a:pt x="3377" y="42"/>
                  <a:pt x="3396" y="23"/>
                  <a:pt x="3417" y="23"/>
                </a:cubicBezTo>
                <a:cubicBezTo>
                  <a:pt x="3520" y="23"/>
                  <a:pt x="3520" y="23"/>
                  <a:pt x="3520" y="23"/>
                </a:cubicBezTo>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Microsoft Sans Serif"/>
            </a:endParaRPr>
          </a:p>
        </p:txBody>
      </p:sp>
      <p:sp>
        <p:nvSpPr>
          <p:cNvPr id="2" name="Freeform 8"/>
          <p:cNvSpPr/>
          <p:nvPr/>
        </p:nvSpPr>
        <p:spPr>
          <a:xfrm>
            <a:off x="-876240" y="4977720"/>
            <a:ext cx="12551760" cy="3889080"/>
          </a:xfrm>
          <a:custGeom>
            <a:avLst/>
            <a:gdLst>
              <a:gd name="textAreaLeft" fmla="*/ 0 w 12551760"/>
              <a:gd name="textAreaRight" fmla="*/ 12552120 w 12551760"/>
              <a:gd name="textAreaTop" fmla="*/ 0 h 3889080"/>
              <a:gd name="textAreaBottom" fmla="*/ 3889440 h 3889080"/>
            </a:gdLst>
            <a:ahLst/>
            <a:rect l="textAreaLeft" t="textAreaTop" r="textAreaRight" b="textAreaBottom"/>
            <a:pathLst>
              <a:path w="2327" h="720">
                <a:moveTo>
                  <a:pt x="2068" y="28"/>
                </a:moveTo>
                <a:cubicBezTo>
                  <a:pt x="2060" y="9"/>
                  <a:pt x="2047" y="0"/>
                  <a:pt x="2029" y="0"/>
                </a:cubicBezTo>
                <a:cubicBezTo>
                  <a:pt x="2029" y="0"/>
                  <a:pt x="2029" y="0"/>
                  <a:pt x="1921" y="0"/>
                </a:cubicBezTo>
                <a:cubicBezTo>
                  <a:pt x="1903" y="0"/>
                  <a:pt x="1889" y="9"/>
                  <a:pt x="1881" y="28"/>
                </a:cubicBezTo>
                <a:cubicBezTo>
                  <a:pt x="1881" y="28"/>
                  <a:pt x="1881" y="28"/>
                  <a:pt x="1706" y="507"/>
                </a:cubicBezTo>
                <a:cubicBezTo>
                  <a:pt x="1706" y="507"/>
                  <a:pt x="1706" y="507"/>
                  <a:pt x="1525" y="28"/>
                </a:cubicBezTo>
                <a:cubicBezTo>
                  <a:pt x="1517" y="9"/>
                  <a:pt x="1504" y="0"/>
                  <a:pt x="1486" y="0"/>
                </a:cubicBezTo>
                <a:cubicBezTo>
                  <a:pt x="1486" y="0"/>
                  <a:pt x="1486" y="0"/>
                  <a:pt x="1379" y="0"/>
                </a:cubicBezTo>
                <a:cubicBezTo>
                  <a:pt x="1361" y="0"/>
                  <a:pt x="1348" y="9"/>
                  <a:pt x="1340" y="28"/>
                </a:cubicBezTo>
                <a:cubicBezTo>
                  <a:pt x="1340" y="28"/>
                  <a:pt x="1340" y="28"/>
                  <a:pt x="1163" y="507"/>
                </a:cubicBezTo>
                <a:cubicBezTo>
                  <a:pt x="1163" y="507"/>
                  <a:pt x="1163" y="507"/>
                  <a:pt x="985" y="28"/>
                </a:cubicBezTo>
                <a:cubicBezTo>
                  <a:pt x="978" y="9"/>
                  <a:pt x="964" y="0"/>
                  <a:pt x="946" y="0"/>
                </a:cubicBezTo>
                <a:cubicBezTo>
                  <a:pt x="946" y="0"/>
                  <a:pt x="946" y="0"/>
                  <a:pt x="840" y="0"/>
                </a:cubicBezTo>
                <a:cubicBezTo>
                  <a:pt x="822" y="0"/>
                  <a:pt x="808" y="9"/>
                  <a:pt x="800" y="28"/>
                </a:cubicBezTo>
                <a:cubicBezTo>
                  <a:pt x="800" y="28"/>
                  <a:pt x="800" y="28"/>
                  <a:pt x="621" y="507"/>
                </a:cubicBezTo>
                <a:cubicBezTo>
                  <a:pt x="621" y="507"/>
                  <a:pt x="621" y="507"/>
                  <a:pt x="444" y="28"/>
                </a:cubicBezTo>
                <a:cubicBezTo>
                  <a:pt x="436" y="9"/>
                  <a:pt x="424" y="0"/>
                  <a:pt x="406" y="0"/>
                </a:cubicBezTo>
                <a:cubicBezTo>
                  <a:pt x="406" y="0"/>
                  <a:pt x="406" y="0"/>
                  <a:pt x="297" y="0"/>
                </a:cubicBezTo>
                <a:cubicBezTo>
                  <a:pt x="279" y="0"/>
                  <a:pt x="265" y="9"/>
                  <a:pt x="258" y="28"/>
                </a:cubicBezTo>
                <a:cubicBezTo>
                  <a:pt x="258" y="28"/>
                  <a:pt x="258" y="28"/>
                  <a:pt x="6" y="684"/>
                </a:cubicBezTo>
                <a:cubicBezTo>
                  <a:pt x="0" y="702"/>
                  <a:pt x="8" y="720"/>
                  <a:pt x="31" y="720"/>
                </a:cubicBezTo>
                <a:cubicBezTo>
                  <a:pt x="31" y="720"/>
                  <a:pt x="31" y="720"/>
                  <a:pt x="127" y="720"/>
                </a:cubicBezTo>
                <a:cubicBezTo>
                  <a:pt x="145" y="720"/>
                  <a:pt x="160" y="711"/>
                  <a:pt x="166" y="693"/>
                </a:cubicBezTo>
                <a:cubicBezTo>
                  <a:pt x="166" y="693"/>
                  <a:pt x="166" y="693"/>
                  <a:pt x="351" y="198"/>
                </a:cubicBezTo>
                <a:cubicBezTo>
                  <a:pt x="351" y="198"/>
                  <a:pt x="351" y="198"/>
                  <a:pt x="536" y="693"/>
                </a:cubicBezTo>
                <a:cubicBezTo>
                  <a:pt x="543" y="712"/>
                  <a:pt x="557" y="720"/>
                  <a:pt x="575" y="720"/>
                </a:cubicBezTo>
                <a:cubicBezTo>
                  <a:pt x="575" y="720"/>
                  <a:pt x="575" y="720"/>
                  <a:pt x="663" y="720"/>
                </a:cubicBezTo>
                <a:cubicBezTo>
                  <a:pt x="682" y="720"/>
                  <a:pt x="695" y="712"/>
                  <a:pt x="703" y="693"/>
                </a:cubicBezTo>
                <a:cubicBezTo>
                  <a:pt x="703" y="693"/>
                  <a:pt x="703" y="693"/>
                  <a:pt x="892" y="198"/>
                </a:cubicBezTo>
                <a:cubicBezTo>
                  <a:pt x="892" y="198"/>
                  <a:pt x="892" y="198"/>
                  <a:pt x="1075" y="693"/>
                </a:cubicBezTo>
                <a:cubicBezTo>
                  <a:pt x="1083" y="711"/>
                  <a:pt x="1097" y="720"/>
                  <a:pt x="1115" y="720"/>
                </a:cubicBezTo>
                <a:cubicBezTo>
                  <a:pt x="1115" y="720"/>
                  <a:pt x="1115" y="720"/>
                  <a:pt x="1208" y="720"/>
                </a:cubicBezTo>
                <a:cubicBezTo>
                  <a:pt x="1226" y="720"/>
                  <a:pt x="1240" y="711"/>
                  <a:pt x="1247" y="693"/>
                </a:cubicBezTo>
                <a:cubicBezTo>
                  <a:pt x="1247" y="693"/>
                  <a:pt x="1247" y="693"/>
                  <a:pt x="1432" y="198"/>
                </a:cubicBezTo>
                <a:cubicBezTo>
                  <a:pt x="1432" y="198"/>
                  <a:pt x="1432" y="198"/>
                  <a:pt x="1620" y="693"/>
                </a:cubicBezTo>
                <a:cubicBezTo>
                  <a:pt x="1627" y="712"/>
                  <a:pt x="1641" y="720"/>
                  <a:pt x="1659" y="720"/>
                </a:cubicBezTo>
                <a:cubicBezTo>
                  <a:pt x="1659" y="720"/>
                  <a:pt x="1659" y="720"/>
                  <a:pt x="1748" y="720"/>
                </a:cubicBezTo>
                <a:cubicBezTo>
                  <a:pt x="1766" y="720"/>
                  <a:pt x="1779" y="712"/>
                  <a:pt x="1787" y="693"/>
                </a:cubicBezTo>
                <a:cubicBezTo>
                  <a:pt x="1787" y="693"/>
                  <a:pt x="1787" y="693"/>
                  <a:pt x="1973" y="201"/>
                </a:cubicBezTo>
                <a:cubicBezTo>
                  <a:pt x="1973" y="201"/>
                  <a:pt x="1973" y="201"/>
                  <a:pt x="2156" y="693"/>
                </a:cubicBezTo>
                <a:cubicBezTo>
                  <a:pt x="2162" y="711"/>
                  <a:pt x="2178" y="720"/>
                  <a:pt x="2196" y="720"/>
                </a:cubicBezTo>
                <a:cubicBezTo>
                  <a:pt x="2196" y="720"/>
                  <a:pt x="2196" y="720"/>
                  <a:pt x="2295" y="720"/>
                </a:cubicBezTo>
                <a:cubicBezTo>
                  <a:pt x="2317" y="720"/>
                  <a:pt x="2327" y="702"/>
                  <a:pt x="2319" y="684"/>
                </a:cubicBezTo>
                <a:cubicBezTo>
                  <a:pt x="2319" y="684"/>
                  <a:pt x="2319" y="684"/>
                  <a:pt x="2068" y="28"/>
                </a:cubicBezTo>
                <a:close/>
              </a:path>
            </a:pathLst>
          </a:custGeom>
          <a:solidFill>
            <a:srgbClr val="214acd"/>
          </a:solidFill>
          <a:ln w="0">
            <a:noFill/>
          </a:ln>
          <a:effectLst>
            <a:innerShdw blurRad="63500" dir="13500000" dist="50800">
              <a:srgbClr val="000000">
                <a:alpha val="50000"/>
              </a:srgbClr>
            </a:innerShdw>
          </a:effectLst>
        </p:spPr>
        <p:style>
          <a:lnRef idx="0"/>
          <a:fillRef idx="0"/>
          <a:effectRef idx="0"/>
          <a:fontRef idx="minor"/>
        </p:style>
        <p:txBody>
          <a:bodyPr numCol="1" spcCol="0" anchor="t">
            <a:noAutofit/>
          </a:bodyPr>
          <a:p>
            <a:pPr>
              <a:lnSpc>
                <a:spcPct val="100000"/>
              </a:lnSpc>
            </a:pPr>
            <a:endParaRPr b="0" lang="en-US" sz="1580" spc="-1" strike="noStrike">
              <a:solidFill>
                <a:srgbClr val="13161e"/>
              </a:solidFill>
              <a:latin typeface="Microsoft Sans Serif"/>
            </a:endParaRPr>
          </a:p>
        </p:txBody>
      </p:sp>
      <p:sp>
        <p:nvSpPr>
          <p:cNvPr id="3" name="PlaceHolder 1"/>
          <p:cNvSpPr>
            <a:spLocks noGrp="1"/>
          </p:cNvSpPr>
          <p:nvPr>
            <p:ph type="body"/>
          </p:nvPr>
        </p:nvSpPr>
        <p:spPr>
          <a:xfrm>
            <a:off x="495360" y="4195080"/>
            <a:ext cx="6453720" cy="961560"/>
          </a:xfrm>
          <a:prstGeom prst="rect">
            <a:avLst/>
          </a:prstGeom>
          <a:noFill/>
          <a:ln w="0">
            <a:noFill/>
          </a:ln>
        </p:spPr>
        <p:txBody>
          <a:bodyPr lIns="0" rIns="0" tIns="0" bIns="0" anchor="t">
            <a:noAutofit/>
          </a:bodyPr>
          <a:p>
            <a:pPr>
              <a:lnSpc>
                <a:spcPct val="95000"/>
              </a:lnSpc>
              <a:spcAft>
                <a:spcPts val="601"/>
              </a:spcAft>
              <a:buClr>
                <a:srgbClr val="3253dc"/>
              </a:buClr>
              <a:buFont typeface="Microsoft Sans Serif"/>
              <a:buChar char="​"/>
              <a:tabLst>
                <a:tab algn="l" pos="2003400"/>
              </a:tabLst>
            </a:pPr>
            <a:r>
              <a:rPr b="1" lang="en-US" sz="2000" spc="29" strike="noStrike">
                <a:solidFill>
                  <a:srgbClr val="f7f8fa"/>
                </a:solidFill>
                <a:latin typeface="Microsoft Sans Serif"/>
              </a:rPr>
              <a:t>Speaker name</a:t>
            </a:r>
            <a:endParaRPr b="0" lang="en-US" sz="2000" spc="-1" strike="noStrike">
              <a:solidFill>
                <a:srgbClr val="0b2742"/>
              </a:solidFill>
              <a:latin typeface="Microsoft Sans Serif"/>
            </a:endParaRPr>
          </a:p>
          <a:p>
            <a:pPr indent="0">
              <a:lnSpc>
                <a:spcPct val="96000"/>
              </a:lnSpc>
              <a:spcAft>
                <a:spcPts val="224"/>
              </a:spcAft>
              <a:buNone/>
              <a:tabLst>
                <a:tab algn="l" pos="0"/>
              </a:tabLst>
            </a:pPr>
            <a:r>
              <a:rPr b="0" lang="en-US" sz="1600" spc="-1" strike="noStrike">
                <a:solidFill>
                  <a:srgbClr val="f7f8fa"/>
                </a:solidFill>
                <a:latin typeface="Microsoft Sans Serif"/>
              </a:rPr>
              <a:t>Speaker title, Employing entity</a:t>
            </a:r>
            <a:endParaRPr b="0" lang="en-US" sz="1600" spc="-1" strike="noStrike">
              <a:solidFill>
                <a:srgbClr val="0b2742"/>
              </a:solidFill>
              <a:latin typeface="Microsoft Sans Serif"/>
            </a:endParaRPr>
          </a:p>
          <a:p>
            <a:pPr indent="0">
              <a:lnSpc>
                <a:spcPct val="96000"/>
              </a:lnSpc>
              <a:spcAft>
                <a:spcPts val="224"/>
              </a:spcAft>
              <a:buNone/>
              <a:tabLst>
                <a:tab algn="l" pos="0"/>
              </a:tabLst>
            </a:pPr>
            <a:endParaRPr b="0" lang="en-US" sz="1600" spc="-1" strike="noStrike">
              <a:solidFill>
                <a:srgbClr val="0b2742"/>
              </a:solidFill>
              <a:latin typeface="Microsoft Sans Serif"/>
            </a:endParaRPr>
          </a:p>
        </p:txBody>
      </p:sp>
      <p:sp>
        <p:nvSpPr>
          <p:cNvPr id="4" name="PlaceHolder 2"/>
          <p:cNvSpPr>
            <a:spLocks noGrp="1"/>
          </p:cNvSpPr>
          <p:nvPr>
            <p:ph type="body"/>
          </p:nvPr>
        </p:nvSpPr>
        <p:spPr>
          <a:xfrm>
            <a:off x="6202440" y="399960"/>
            <a:ext cx="1903680" cy="226440"/>
          </a:xfrm>
          <a:prstGeom prst="rect">
            <a:avLst/>
          </a:prstGeom>
          <a:noFill/>
          <a:ln w="0">
            <a:noFill/>
          </a:ln>
        </p:spPr>
        <p:txBody>
          <a:bodyPr lIns="0" rIns="0" tIns="0" bIns="0" anchor="t">
            <a:noAutofit/>
          </a:bodyPr>
          <a:p>
            <a:pPr indent="0">
              <a:lnSpc>
                <a:spcPct val="87000"/>
              </a:lnSpc>
              <a:spcAft>
                <a:spcPts val="300"/>
              </a:spcAft>
              <a:buNone/>
              <a:tabLst>
                <a:tab algn="l" pos="0"/>
              </a:tabLst>
            </a:pPr>
            <a:r>
              <a:rPr b="0" lang="en-US" sz="1600" spc="-1" strike="noStrike">
                <a:solidFill>
                  <a:srgbClr val="f7f8fa"/>
                </a:solidFill>
                <a:latin typeface="Microsoft Sans Serif"/>
              </a:rPr>
              <a:t>Location</a:t>
            </a:r>
            <a:endParaRPr b="0" lang="en-US" sz="1600" spc="-1" strike="noStrike">
              <a:solidFill>
                <a:srgbClr val="0b2742"/>
              </a:solidFill>
              <a:latin typeface="Microsoft Sans Serif"/>
            </a:endParaRPr>
          </a:p>
        </p:txBody>
      </p:sp>
      <p:sp>
        <p:nvSpPr>
          <p:cNvPr id="5" name="PlaceHolder 3"/>
          <p:cNvSpPr>
            <a:spLocks noGrp="1"/>
          </p:cNvSpPr>
          <p:nvPr>
            <p:ph type="body"/>
          </p:nvPr>
        </p:nvSpPr>
        <p:spPr>
          <a:xfrm>
            <a:off x="9448920" y="396000"/>
            <a:ext cx="1881720" cy="261720"/>
          </a:xfrm>
          <a:prstGeom prst="rect">
            <a:avLst/>
          </a:prstGeom>
          <a:noFill/>
          <a:ln w="0">
            <a:noFill/>
          </a:ln>
        </p:spPr>
        <p:txBody>
          <a:bodyPr lIns="0" rIns="0" tIns="0" bIns="0" anchor="t">
            <a:noAutofit/>
          </a:bodyPr>
          <a:p>
            <a:pPr indent="0">
              <a:lnSpc>
                <a:spcPct val="87000"/>
              </a:lnSpc>
              <a:spcAft>
                <a:spcPts val="300"/>
              </a:spcAft>
              <a:buNone/>
              <a:tabLst>
                <a:tab algn="l" pos="0"/>
              </a:tabLst>
            </a:pPr>
            <a:r>
              <a:rPr b="0" lang="en-US" sz="1600" spc="-1" strike="noStrike">
                <a:solidFill>
                  <a:srgbClr val="f7f8fa"/>
                </a:solidFill>
                <a:latin typeface="Microsoft Sans Serif"/>
              </a:rPr>
              <a:t>Date</a:t>
            </a:r>
            <a:endParaRPr b="0" lang="en-US" sz="1600" spc="-1" strike="noStrike">
              <a:solidFill>
                <a:srgbClr val="0b2742"/>
              </a:solidFill>
              <a:latin typeface="Microsoft Sans Serif"/>
            </a:endParaRPr>
          </a:p>
        </p:txBody>
      </p:sp>
      <p:sp>
        <p:nvSpPr>
          <p:cNvPr id="6" name="PlaceHolder 4"/>
          <p:cNvSpPr>
            <a:spLocks noGrp="1"/>
          </p:cNvSpPr>
          <p:nvPr>
            <p:ph type="body"/>
          </p:nvPr>
        </p:nvSpPr>
        <p:spPr>
          <a:xfrm>
            <a:off x="479520" y="5520960"/>
            <a:ext cx="6453720" cy="264960"/>
          </a:xfrm>
          <a:prstGeom prst="rect">
            <a:avLst/>
          </a:prstGeom>
          <a:noFill/>
          <a:ln w="0">
            <a:noFill/>
          </a:ln>
        </p:spPr>
        <p:txBody>
          <a:bodyPr lIns="0" rIns="0" tIns="0" bIns="0" anchor="t">
            <a:noAutofit/>
          </a:bodyPr>
          <a:p>
            <a:pPr indent="0">
              <a:lnSpc>
                <a:spcPct val="98000"/>
              </a:lnSpc>
              <a:buNone/>
              <a:tabLst>
                <a:tab algn="l" pos="0"/>
              </a:tabLst>
            </a:pPr>
            <a:r>
              <a:rPr b="1" lang="en-US" sz="1600" spc="-1" strike="noStrike">
                <a:solidFill>
                  <a:srgbClr val="f7f8fa"/>
                </a:solidFill>
                <a:latin typeface="Microsoft Sans Serif"/>
              </a:rPr>
              <a:t>@qualcomm</a:t>
            </a:r>
            <a:endParaRPr b="0" lang="en-US" sz="1600" spc="-1" strike="noStrike">
              <a:solidFill>
                <a:srgbClr val="0b2742"/>
              </a:solidFill>
              <a:latin typeface="Microsoft Sans Serif"/>
            </a:endParaRPr>
          </a:p>
        </p:txBody>
      </p:sp>
      <p:sp>
        <p:nvSpPr>
          <p:cNvPr id="7" name="PlaceHolder 5"/>
          <p:cNvSpPr>
            <a:spLocks noGrp="1"/>
          </p:cNvSpPr>
          <p:nvPr>
            <p:ph type="title"/>
          </p:nvPr>
        </p:nvSpPr>
        <p:spPr>
          <a:xfrm>
            <a:off x="431640" y="2931840"/>
            <a:ext cx="6517440" cy="1145160"/>
          </a:xfrm>
          <a:prstGeom prst="rect">
            <a:avLst/>
          </a:prstGeom>
          <a:noFill/>
          <a:ln w="0">
            <a:noFill/>
          </a:ln>
        </p:spPr>
        <p:txBody>
          <a:bodyPr lIns="0" rIns="0" tIns="0" bIns="0" anchor="b">
            <a:noAutofit/>
          </a:bodyPr>
          <a:p>
            <a:pPr indent="0">
              <a:lnSpc>
                <a:spcPct val="87000"/>
              </a:lnSpc>
              <a:buNone/>
            </a:pPr>
            <a:r>
              <a:rPr b="0" lang="ko-KR" sz="5400" spc="-1" strike="noStrike">
                <a:solidFill>
                  <a:srgbClr val="f7f8fa"/>
                </a:solidFill>
                <a:latin typeface="Microsoft Sans Serif"/>
              </a:rPr>
              <a:t>마스터 제목 스타일 편집</a:t>
            </a:r>
            <a:endParaRPr b="0" lang="en-US" sz="5400" spc="-1" strike="noStrike">
              <a:solidFill>
                <a:srgbClr val="13161e"/>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97"/>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7A190F6C-43C9-42DE-9EB2-7084B23CB2D4}"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grpSp>
        <p:nvGrpSpPr>
          <p:cNvPr id="45" name="Group 1"/>
          <p:cNvGrpSpPr/>
          <p:nvPr/>
        </p:nvGrpSpPr>
        <p:grpSpPr>
          <a:xfrm>
            <a:off x="-1800" y="5312520"/>
            <a:ext cx="12195360" cy="1545120"/>
            <a:chOff x="-1800" y="5312520"/>
            <a:chExt cx="12195360" cy="1545120"/>
          </a:xfrm>
        </p:grpSpPr>
        <p:sp>
          <p:nvSpPr>
            <p:cNvPr id="46" name="Rectangle 55"/>
            <p:cNvSpPr/>
            <p:nvPr/>
          </p:nvSpPr>
          <p:spPr>
            <a:xfrm>
              <a:off x="-1800" y="5312880"/>
              <a:ext cx="12195360" cy="1544760"/>
            </a:xfrm>
            <a:prstGeom prst="rect">
              <a:avLst/>
            </a:prstGeom>
            <a:solidFill>
              <a:schemeClr val="accent1"/>
            </a:solidFill>
            <a:ln w="10795">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entury Gothic"/>
              </a:endParaRPr>
            </a:p>
          </p:txBody>
        </p:sp>
        <p:sp>
          <p:nvSpPr>
            <p:cNvPr id="47" name="Rectangle: Single Corner Rounded 6"/>
            <p:cNvSpPr/>
            <p:nvPr/>
          </p:nvSpPr>
          <p:spPr>
            <a:xfrm flipH="1" flipV="1" rot="5400000">
              <a:off x="5849280" y="-536760"/>
              <a:ext cx="493560" cy="12191760"/>
            </a:xfrm>
            <a:prstGeom prst="round1Rect">
              <a:avLst>
                <a:gd name="adj" fmla="val 0"/>
              </a:avLst>
            </a:prstGeom>
            <a:gradFill rotWithShape="0">
              <a:gsLst>
                <a:gs pos="0">
                  <a:srgbClr val="2649da">
                    <a:alpha val="0"/>
                  </a:srgbClr>
                </a:gs>
                <a:gs pos="100000">
                  <a:srgbClr val="2540b3"/>
                </a:gs>
              </a:gsLst>
              <a:lin ang="162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1" lang="en-US" sz="1580" spc="-1" strike="noStrike">
                <a:solidFill>
                  <a:srgbClr val="ffffff"/>
                </a:solidFill>
                <a:latin typeface="Microsoft Sans Serif"/>
              </a:endParaRPr>
            </a:p>
          </p:txBody>
        </p:sp>
      </p:grpSp>
      <p:sp>
        <p:nvSpPr>
          <p:cNvPr id="48" name="PlaceHolder 1"/>
          <p:cNvSpPr>
            <a:spLocks noGrp="1"/>
          </p:cNvSpPr>
          <p:nvPr>
            <p:ph type="body"/>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Microsoft Sans Serif"/>
              </a:rPr>
              <a:t>Click to edit Master text styles</a:t>
            </a:r>
            <a:endParaRPr b="0" lang="en-US" sz="2800" spc="-1" strike="noStrike">
              <a:solidFill>
                <a:srgbClr val="262626"/>
              </a:solidFill>
              <a:latin typeface="Microsoft Sans Serif"/>
            </a:endParaRPr>
          </a:p>
        </p:txBody>
      </p:sp>
      <p:sp>
        <p:nvSpPr>
          <p:cNvPr id="49" name="PlaceHolder 2"/>
          <p:cNvSpPr>
            <a:spLocks noGrp="1"/>
          </p:cNvSpPr>
          <p:nvPr>
            <p:ph type="ftr" idx="1"/>
          </p:nvPr>
        </p:nvSpPr>
        <p:spPr>
          <a:xfrm>
            <a:off x="494280" y="1264320"/>
            <a:ext cx="6418080" cy="3977640"/>
          </a:xfrm>
          <a:prstGeom prst="rect">
            <a:avLst/>
          </a:prstGeom>
          <a:noFill/>
          <a:ln w="0">
            <a:noFill/>
          </a:ln>
        </p:spPr>
        <p:txBody>
          <a:bodyPr lIns="0" rIns="0" tIns="0" bIns="0" anchor="b">
            <a:noAutofit/>
          </a:bodyPr>
          <a:lstStyle>
            <a:lvl1pPr indent="0">
              <a:lnSpc>
                <a:spcPct val="96000"/>
              </a:lnSpc>
              <a:buNone/>
              <a:defRPr b="0" lang="en-US" sz="800" spc="-1" strike="noStrike">
                <a:solidFill>
                  <a:schemeClr val="accent5">
                    <a:lumMod val="50000"/>
                    <a:lumOff val="50000"/>
                  </a:schemeClr>
                </a:solidFill>
                <a:latin typeface="Microsoft Sans Serif"/>
              </a:defRPr>
            </a:lvl1pPr>
          </a:lstStyle>
          <a:p>
            <a:pPr indent="0">
              <a:lnSpc>
                <a:spcPct val="96000"/>
              </a:lnSpc>
              <a:buNone/>
            </a:pPr>
            <a:r>
              <a:rPr b="0" lang="en-US" sz="800" spc="-1" strike="noStrike">
                <a:solidFill>
                  <a:schemeClr val="accent5">
                    <a:lumMod val="50000"/>
                    <a:lumOff val="50000"/>
                  </a:schemeClr>
                </a:solidFill>
                <a:latin typeface="Microsoft Sans Serif"/>
              </a:rPr>
              <a:t>&lt;footer&gt;</a:t>
            </a:r>
            <a:endParaRPr b="0" lang="en-US" sz="800" spc="-1" strike="noStrike">
              <a:solidFill>
                <a:srgbClr val="000000"/>
              </a:solidFill>
              <a:latin typeface="Times New Roman"/>
            </a:endParaRPr>
          </a:p>
        </p:txBody>
      </p:sp>
      <p:sp>
        <p:nvSpPr>
          <p:cNvPr id="50" name="TextBox 11"/>
          <p:cNvSpPr/>
          <p:nvPr/>
        </p:nvSpPr>
        <p:spPr>
          <a:xfrm>
            <a:off x="11384280" y="647712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B38CC064-DD1F-4417-8136-B29093D76595}" type="slidenum">
              <a:rPr b="0" lang="en-US" sz="800" spc="-1" strike="noStrike">
                <a:solidFill>
                  <a:schemeClr val="accent2">
                    <a:lumMod val="60000"/>
                    <a:lumOff val="40000"/>
                  </a:schemeClr>
                </a:solidFill>
                <a:latin typeface="Microsoft Sans Serif"/>
              </a:rPr>
              <a:t>&lt;number&gt;</a:t>
            </a:fld>
            <a:endParaRPr b="0" lang="en-US" sz="800" spc="-1" strike="noStrike">
              <a:solidFill>
                <a:srgbClr val="000000"/>
              </a:solidFill>
              <a:latin typeface="Arial"/>
            </a:endParaRPr>
          </a:p>
        </p:txBody>
      </p:sp>
      <p:sp>
        <p:nvSpPr>
          <p:cNvPr id="51"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Click to edit Master title style</a:t>
            </a:r>
            <a:endParaRPr b="0" lang="en-US" sz="3400" spc="-1" strike="noStrike">
              <a:solidFill>
                <a:srgbClr val="000000"/>
              </a:solidFill>
              <a:latin typeface="Microsoft Sans Serif"/>
            </a:endParaRPr>
          </a:p>
        </p:txBody>
      </p:sp>
      <p:sp>
        <p:nvSpPr>
          <p:cNvPr id="52" name="PlaceHolder 4"/>
          <p:cNvSpPr>
            <a:spLocks noGrp="1"/>
          </p:cNvSpPr>
          <p:nvPr>
            <p:ph type="body"/>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Microsoft Sans Serif"/>
              </a:rPr>
              <a:t>Click to edit Master text style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Microsoft Sans Serif"/>
              </a:rPr>
              <a:t>Second level</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Microsoft Sans Serif"/>
              </a:rPr>
              <a:t>Third level</a:t>
            </a:r>
            <a:endParaRPr b="0" lang="en-US" sz="1800" spc="-1" strike="noStrike">
              <a:solidFill>
                <a:srgbClr val="262626"/>
              </a:solidFill>
              <a:latin typeface="Microsoft Sans Serif"/>
            </a:endParaRPr>
          </a:p>
          <a:p>
            <a:pPr lvl="3" marL="685800" indent="-173880">
              <a:lnSpc>
                <a:spcPct val="100000"/>
              </a:lnSpc>
              <a:buClr>
                <a:srgbClr val="262626"/>
              </a:buClr>
              <a:buFont typeface="Microsoft Sans Serif"/>
              <a:buChar char="◦"/>
            </a:pPr>
            <a:r>
              <a:rPr b="0" lang="en-US" sz="1800" spc="-1" strike="noStrike">
                <a:solidFill>
                  <a:srgbClr val="262626"/>
                </a:solidFill>
                <a:latin typeface="Microsoft Sans Serif"/>
              </a:rPr>
              <a:t>Fourth level</a:t>
            </a:r>
            <a:endParaRPr b="0" lang="en-US" sz="1800" spc="-1" strike="noStrike">
              <a:solidFill>
                <a:srgbClr val="262626"/>
              </a:solidFill>
              <a:latin typeface="Microsoft Sans Serif"/>
            </a:endParaRPr>
          </a:p>
          <a:p>
            <a:pPr lvl="4">
              <a:lnSpc>
                <a:spcPct val="98000"/>
              </a:lnSpc>
              <a:spcBef>
                <a:spcPts val="1800"/>
              </a:spcBef>
              <a:buClr>
                <a:srgbClr val="595959"/>
              </a:buClr>
              <a:buFont typeface="Microsoft Sans Serif"/>
              <a:buChar char="​"/>
            </a:pPr>
            <a:r>
              <a:rPr b="0" lang="en-US" sz="2800" spc="-1" strike="noStrike">
                <a:solidFill>
                  <a:srgbClr val="262626"/>
                </a:solidFill>
                <a:latin typeface="Microsoft Sans Serif"/>
              </a:rPr>
              <a:t>Fifth level</a:t>
            </a:r>
            <a:endParaRPr b="0" lang="en-US" sz="28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89" name="TextBox 97" hidden="1"/>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F84857BA-64E3-4973-9998-F651E1A78396}"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sp>
        <p:nvSpPr>
          <p:cNvPr id="90" name="Rectangle: Rounded Corners 16"/>
          <p:cNvSpPr/>
          <p:nvPr/>
        </p:nvSpPr>
        <p:spPr>
          <a:xfrm>
            <a:off x="465480" y="4935240"/>
            <a:ext cx="11234160" cy="1922400"/>
          </a:xfrm>
          <a:custGeom>
            <a:avLst/>
            <a:gdLst>
              <a:gd name="textAreaLeft" fmla="*/ 0 w 11234160"/>
              <a:gd name="textAreaRight" fmla="*/ 11234520 w 11234160"/>
              <a:gd name="textAreaTop" fmla="*/ 0 h 1922400"/>
              <a:gd name="textAreaBottom" fmla="*/ 1922760 h 1922400"/>
            </a:gdLst>
            <a:ahLst/>
            <a:rect l="textAreaLeft" t="textAreaTop" r="textAreaRight" b="textAreaBottom"/>
            <a:pathLst>
              <a:path w="11234664" h="2150218">
                <a:moveTo>
                  <a:pt x="0" y="74943"/>
                </a:moveTo>
                <a:cubicBezTo>
                  <a:pt x="0" y="33553"/>
                  <a:pt x="33553" y="0"/>
                  <a:pt x="74943" y="0"/>
                </a:cubicBezTo>
                <a:lnTo>
                  <a:pt x="11159721" y="0"/>
                </a:lnTo>
                <a:cubicBezTo>
                  <a:pt x="11201111" y="0"/>
                  <a:pt x="11234664" y="33553"/>
                  <a:pt x="11234664" y="74943"/>
                </a:cubicBezTo>
                <a:lnTo>
                  <a:pt x="11234664" y="2150218"/>
                </a:lnTo>
                <a:lnTo>
                  <a:pt x="0" y="2150218"/>
                </a:lnTo>
                <a:lnTo>
                  <a:pt x="0" y="74943"/>
                </a:lnTo>
                <a:close/>
              </a:path>
            </a:pathLst>
          </a:custGeom>
          <a:solidFill>
            <a:srgbClr val="214acd"/>
          </a:solidFill>
          <a:ln>
            <a:noFill/>
          </a:ln>
          <a:effectLst>
            <a:innerShdw blurRad="38100" dir="13500000" dist="254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96000"/>
              </a:lnSpc>
            </a:pPr>
            <a:endParaRPr b="0" lang="en-US" sz="1580" spc="-1" strike="noStrike">
              <a:solidFill>
                <a:srgbClr val="664c81"/>
              </a:solidFill>
              <a:latin typeface="Microsoft Sans Serif"/>
            </a:endParaRPr>
          </a:p>
        </p:txBody>
      </p:sp>
      <p:sp>
        <p:nvSpPr>
          <p:cNvPr id="91" name="Freeform 5"/>
          <p:cNvSpPr/>
          <p:nvPr/>
        </p:nvSpPr>
        <p:spPr>
          <a:xfrm>
            <a:off x="847800" y="5234040"/>
            <a:ext cx="1615680" cy="295920"/>
          </a:xfrm>
          <a:custGeom>
            <a:avLst/>
            <a:gdLst>
              <a:gd name="textAreaLeft" fmla="*/ 0 w 1615680"/>
              <a:gd name="textAreaRight" fmla="*/ 1616040 w 1615680"/>
              <a:gd name="textAreaTop" fmla="*/ 0 h 295920"/>
              <a:gd name="textAreaBottom" fmla="*/ 296280 h 295920"/>
            </a:gdLst>
            <a:ahLst/>
            <a:rect l="textAreaLeft" t="textAreaTop" r="textAreaRight" b="textAreaBottom"/>
            <a:pathLst>
              <a:path w="8006" h="1470">
                <a:moveTo>
                  <a:pt x="2159" y="421"/>
                </a:moveTo>
                <a:cubicBezTo>
                  <a:pt x="2180" y="421"/>
                  <a:pt x="2199" y="438"/>
                  <a:pt x="2199" y="461"/>
                </a:cubicBezTo>
                <a:cubicBezTo>
                  <a:pt x="2199" y="1222"/>
                  <a:pt x="2199" y="1222"/>
                  <a:pt x="2199" y="1222"/>
                </a:cubicBezTo>
                <a:cubicBezTo>
                  <a:pt x="2199" y="1243"/>
                  <a:pt x="2180" y="1260"/>
                  <a:pt x="2159" y="1260"/>
                </a:cubicBezTo>
                <a:cubicBezTo>
                  <a:pt x="2056" y="1260"/>
                  <a:pt x="2056" y="1260"/>
                  <a:pt x="2056" y="1260"/>
                </a:cubicBezTo>
                <a:cubicBezTo>
                  <a:pt x="2036" y="1260"/>
                  <a:pt x="2017" y="1244"/>
                  <a:pt x="2017" y="1223"/>
                </a:cubicBezTo>
                <a:cubicBezTo>
                  <a:pt x="2017" y="1153"/>
                  <a:pt x="2017" y="1153"/>
                  <a:pt x="2017" y="1153"/>
                </a:cubicBezTo>
                <a:cubicBezTo>
                  <a:pt x="1965" y="1230"/>
                  <a:pt x="1876" y="1283"/>
                  <a:pt x="1745" y="1283"/>
                </a:cubicBezTo>
                <a:cubicBezTo>
                  <a:pt x="1526" y="1283"/>
                  <a:pt x="1391" y="1138"/>
                  <a:pt x="1391" y="923"/>
                </a:cubicBezTo>
                <a:cubicBezTo>
                  <a:pt x="1391" y="460"/>
                  <a:pt x="1391" y="460"/>
                  <a:pt x="1391" y="460"/>
                </a:cubicBezTo>
                <a:cubicBezTo>
                  <a:pt x="1391" y="438"/>
                  <a:pt x="1411" y="421"/>
                  <a:pt x="1432" y="421"/>
                </a:cubicBezTo>
                <a:cubicBezTo>
                  <a:pt x="1535" y="421"/>
                  <a:pt x="1535" y="421"/>
                  <a:pt x="1535" y="421"/>
                </a:cubicBezTo>
                <a:cubicBezTo>
                  <a:pt x="1556" y="421"/>
                  <a:pt x="1573" y="438"/>
                  <a:pt x="1573" y="460"/>
                </a:cubicBezTo>
                <a:cubicBezTo>
                  <a:pt x="1573" y="893"/>
                  <a:pt x="1573" y="893"/>
                  <a:pt x="1573" y="893"/>
                </a:cubicBezTo>
                <a:cubicBezTo>
                  <a:pt x="1573" y="1033"/>
                  <a:pt x="1647" y="1125"/>
                  <a:pt x="1792" y="1125"/>
                </a:cubicBezTo>
                <a:cubicBezTo>
                  <a:pt x="1933" y="1125"/>
                  <a:pt x="2017" y="1029"/>
                  <a:pt x="2017" y="895"/>
                </a:cubicBezTo>
                <a:cubicBezTo>
                  <a:pt x="2017" y="460"/>
                  <a:pt x="2017" y="460"/>
                  <a:pt x="2017" y="460"/>
                </a:cubicBezTo>
                <a:cubicBezTo>
                  <a:pt x="2017" y="438"/>
                  <a:pt x="2036" y="421"/>
                  <a:pt x="2056" y="421"/>
                </a:cubicBezTo>
                <a:cubicBezTo>
                  <a:pt x="2159" y="421"/>
                  <a:pt x="2159" y="421"/>
                  <a:pt x="2159" y="421"/>
                </a:cubicBezTo>
                <a:moveTo>
                  <a:pt x="638" y="0"/>
                </a:moveTo>
                <a:cubicBezTo>
                  <a:pt x="285" y="0"/>
                  <a:pt x="0" y="274"/>
                  <a:pt x="0" y="641"/>
                </a:cubicBezTo>
                <a:cubicBezTo>
                  <a:pt x="0" y="1008"/>
                  <a:pt x="285" y="1283"/>
                  <a:pt x="638" y="1283"/>
                </a:cubicBezTo>
                <a:cubicBezTo>
                  <a:pt x="698" y="1283"/>
                  <a:pt x="757" y="1275"/>
                  <a:pt x="812" y="1260"/>
                </a:cubicBezTo>
                <a:cubicBezTo>
                  <a:pt x="881" y="1438"/>
                  <a:pt x="881" y="1438"/>
                  <a:pt x="881" y="1438"/>
                </a:cubicBezTo>
                <a:cubicBezTo>
                  <a:pt x="888" y="1458"/>
                  <a:pt x="902" y="1470"/>
                  <a:pt x="928" y="1470"/>
                </a:cubicBezTo>
                <a:cubicBezTo>
                  <a:pt x="1038" y="1470"/>
                  <a:pt x="1038" y="1470"/>
                  <a:pt x="1038" y="1470"/>
                </a:cubicBezTo>
                <a:cubicBezTo>
                  <a:pt x="1064" y="1470"/>
                  <a:pt x="1084" y="1452"/>
                  <a:pt x="1071" y="1419"/>
                </a:cubicBezTo>
                <a:cubicBezTo>
                  <a:pt x="982" y="1185"/>
                  <a:pt x="982" y="1185"/>
                  <a:pt x="982" y="1185"/>
                </a:cubicBezTo>
                <a:cubicBezTo>
                  <a:pt x="1159" y="1074"/>
                  <a:pt x="1276" y="877"/>
                  <a:pt x="1276" y="641"/>
                </a:cubicBezTo>
                <a:cubicBezTo>
                  <a:pt x="1276" y="274"/>
                  <a:pt x="991" y="0"/>
                  <a:pt x="638" y="0"/>
                </a:cubicBezTo>
                <a:moveTo>
                  <a:pt x="916" y="1013"/>
                </a:moveTo>
                <a:cubicBezTo>
                  <a:pt x="835" y="804"/>
                  <a:pt x="835" y="804"/>
                  <a:pt x="835" y="804"/>
                </a:cubicBezTo>
                <a:cubicBezTo>
                  <a:pt x="828" y="786"/>
                  <a:pt x="814" y="771"/>
                  <a:pt x="783" y="771"/>
                </a:cubicBezTo>
                <a:cubicBezTo>
                  <a:pt x="678" y="771"/>
                  <a:pt x="678" y="771"/>
                  <a:pt x="678" y="771"/>
                </a:cubicBezTo>
                <a:cubicBezTo>
                  <a:pt x="652" y="771"/>
                  <a:pt x="631" y="788"/>
                  <a:pt x="643" y="821"/>
                </a:cubicBezTo>
                <a:cubicBezTo>
                  <a:pt x="749" y="1096"/>
                  <a:pt x="749" y="1096"/>
                  <a:pt x="749" y="1096"/>
                </a:cubicBezTo>
                <a:cubicBezTo>
                  <a:pt x="714" y="1105"/>
                  <a:pt x="677" y="1110"/>
                  <a:pt x="638" y="1110"/>
                </a:cubicBezTo>
                <a:cubicBezTo>
                  <a:pt x="379" y="1110"/>
                  <a:pt x="196" y="907"/>
                  <a:pt x="196" y="641"/>
                </a:cubicBezTo>
                <a:cubicBezTo>
                  <a:pt x="196" y="376"/>
                  <a:pt x="379" y="173"/>
                  <a:pt x="638" y="173"/>
                </a:cubicBezTo>
                <a:cubicBezTo>
                  <a:pt x="897" y="173"/>
                  <a:pt x="1080" y="376"/>
                  <a:pt x="1080" y="641"/>
                </a:cubicBezTo>
                <a:cubicBezTo>
                  <a:pt x="1080" y="796"/>
                  <a:pt x="1018" y="929"/>
                  <a:pt x="916" y="1013"/>
                </a:cubicBezTo>
                <a:moveTo>
                  <a:pt x="7997" y="1218"/>
                </a:moveTo>
                <a:cubicBezTo>
                  <a:pt x="8006" y="1239"/>
                  <a:pt x="7995" y="1260"/>
                  <a:pt x="7969" y="1260"/>
                </a:cubicBezTo>
                <a:cubicBezTo>
                  <a:pt x="7854" y="1260"/>
                  <a:pt x="7854" y="1260"/>
                  <a:pt x="7854" y="1260"/>
                </a:cubicBezTo>
                <a:cubicBezTo>
                  <a:pt x="7833" y="1260"/>
                  <a:pt x="7815" y="1250"/>
                  <a:pt x="7808" y="1229"/>
                </a:cubicBezTo>
                <a:cubicBezTo>
                  <a:pt x="7595" y="655"/>
                  <a:pt x="7595" y="655"/>
                  <a:pt x="7595" y="655"/>
                </a:cubicBezTo>
                <a:cubicBezTo>
                  <a:pt x="7378" y="1229"/>
                  <a:pt x="7378" y="1229"/>
                  <a:pt x="7378" y="1229"/>
                </a:cubicBezTo>
                <a:cubicBezTo>
                  <a:pt x="7369" y="1251"/>
                  <a:pt x="7354" y="1260"/>
                  <a:pt x="7333" y="1260"/>
                </a:cubicBezTo>
                <a:cubicBezTo>
                  <a:pt x="7230" y="1260"/>
                  <a:pt x="7230" y="1260"/>
                  <a:pt x="7230" y="1260"/>
                </a:cubicBezTo>
                <a:cubicBezTo>
                  <a:pt x="7209" y="1260"/>
                  <a:pt x="7193" y="1251"/>
                  <a:pt x="7184" y="1229"/>
                </a:cubicBezTo>
                <a:cubicBezTo>
                  <a:pt x="6966" y="652"/>
                  <a:pt x="6966" y="652"/>
                  <a:pt x="6966" y="652"/>
                </a:cubicBezTo>
                <a:cubicBezTo>
                  <a:pt x="6751" y="1229"/>
                  <a:pt x="6751" y="1229"/>
                  <a:pt x="6751" y="1229"/>
                </a:cubicBezTo>
                <a:cubicBezTo>
                  <a:pt x="6742" y="1250"/>
                  <a:pt x="6726" y="1260"/>
                  <a:pt x="6705" y="1260"/>
                </a:cubicBezTo>
                <a:cubicBezTo>
                  <a:pt x="6597" y="1260"/>
                  <a:pt x="6597" y="1260"/>
                  <a:pt x="6597" y="1260"/>
                </a:cubicBezTo>
                <a:cubicBezTo>
                  <a:pt x="6576" y="1260"/>
                  <a:pt x="6560" y="1250"/>
                  <a:pt x="6551" y="1229"/>
                </a:cubicBezTo>
                <a:cubicBezTo>
                  <a:pt x="6338" y="652"/>
                  <a:pt x="6338" y="652"/>
                  <a:pt x="6338" y="652"/>
                </a:cubicBezTo>
                <a:cubicBezTo>
                  <a:pt x="6118" y="1229"/>
                  <a:pt x="6118" y="1229"/>
                  <a:pt x="6118" y="1229"/>
                </a:cubicBezTo>
                <a:cubicBezTo>
                  <a:pt x="6109" y="1251"/>
                  <a:pt x="6093" y="1260"/>
                  <a:pt x="6072" y="1260"/>
                </a:cubicBezTo>
                <a:cubicBezTo>
                  <a:pt x="5969" y="1260"/>
                  <a:pt x="5969" y="1260"/>
                  <a:pt x="5969" y="1260"/>
                </a:cubicBezTo>
                <a:cubicBezTo>
                  <a:pt x="5948" y="1260"/>
                  <a:pt x="5932" y="1251"/>
                  <a:pt x="5924" y="1229"/>
                </a:cubicBezTo>
                <a:cubicBezTo>
                  <a:pt x="5709" y="652"/>
                  <a:pt x="5709" y="652"/>
                  <a:pt x="5709" y="652"/>
                </a:cubicBezTo>
                <a:cubicBezTo>
                  <a:pt x="5494" y="1229"/>
                  <a:pt x="5494" y="1229"/>
                  <a:pt x="5494" y="1229"/>
                </a:cubicBezTo>
                <a:cubicBezTo>
                  <a:pt x="5487" y="1250"/>
                  <a:pt x="5469" y="1260"/>
                  <a:pt x="5448" y="1260"/>
                </a:cubicBezTo>
                <a:cubicBezTo>
                  <a:pt x="5336" y="1260"/>
                  <a:pt x="5336" y="1260"/>
                  <a:pt x="5336" y="1260"/>
                </a:cubicBezTo>
                <a:cubicBezTo>
                  <a:pt x="5310" y="1260"/>
                  <a:pt x="5300" y="1239"/>
                  <a:pt x="5308" y="1218"/>
                </a:cubicBezTo>
                <a:cubicBezTo>
                  <a:pt x="5600" y="454"/>
                  <a:pt x="5600" y="454"/>
                  <a:pt x="5600" y="454"/>
                </a:cubicBezTo>
                <a:cubicBezTo>
                  <a:pt x="5609" y="432"/>
                  <a:pt x="5625" y="421"/>
                  <a:pt x="5646" y="421"/>
                </a:cubicBezTo>
                <a:cubicBezTo>
                  <a:pt x="5772" y="421"/>
                  <a:pt x="5772" y="421"/>
                  <a:pt x="5772" y="421"/>
                </a:cubicBezTo>
                <a:cubicBezTo>
                  <a:pt x="5793" y="421"/>
                  <a:pt x="5808" y="432"/>
                  <a:pt x="5817" y="454"/>
                </a:cubicBezTo>
                <a:cubicBezTo>
                  <a:pt x="6023" y="1012"/>
                  <a:pt x="6023" y="1012"/>
                  <a:pt x="6023" y="1012"/>
                </a:cubicBezTo>
                <a:cubicBezTo>
                  <a:pt x="6231" y="454"/>
                  <a:pt x="6231" y="454"/>
                  <a:pt x="6231" y="454"/>
                </a:cubicBezTo>
                <a:cubicBezTo>
                  <a:pt x="6240" y="432"/>
                  <a:pt x="6256" y="421"/>
                  <a:pt x="6277" y="421"/>
                </a:cubicBezTo>
                <a:cubicBezTo>
                  <a:pt x="6401" y="421"/>
                  <a:pt x="6401" y="421"/>
                  <a:pt x="6401" y="421"/>
                </a:cubicBezTo>
                <a:cubicBezTo>
                  <a:pt x="6422" y="421"/>
                  <a:pt x="6438" y="432"/>
                  <a:pt x="6446" y="454"/>
                </a:cubicBezTo>
                <a:cubicBezTo>
                  <a:pt x="6653" y="1012"/>
                  <a:pt x="6653" y="1012"/>
                  <a:pt x="6653" y="1012"/>
                </a:cubicBezTo>
                <a:cubicBezTo>
                  <a:pt x="6859" y="454"/>
                  <a:pt x="6859" y="454"/>
                  <a:pt x="6859" y="454"/>
                </a:cubicBezTo>
                <a:cubicBezTo>
                  <a:pt x="6868" y="432"/>
                  <a:pt x="6883" y="421"/>
                  <a:pt x="6904" y="421"/>
                </a:cubicBezTo>
                <a:cubicBezTo>
                  <a:pt x="7029" y="421"/>
                  <a:pt x="7029" y="421"/>
                  <a:pt x="7029" y="421"/>
                </a:cubicBezTo>
                <a:cubicBezTo>
                  <a:pt x="7049" y="421"/>
                  <a:pt x="7065" y="432"/>
                  <a:pt x="7074" y="454"/>
                </a:cubicBezTo>
                <a:cubicBezTo>
                  <a:pt x="7284" y="1012"/>
                  <a:pt x="7284" y="1012"/>
                  <a:pt x="7284" y="1012"/>
                </a:cubicBezTo>
                <a:cubicBezTo>
                  <a:pt x="7488" y="454"/>
                  <a:pt x="7488" y="454"/>
                  <a:pt x="7488" y="454"/>
                </a:cubicBezTo>
                <a:cubicBezTo>
                  <a:pt x="7497" y="432"/>
                  <a:pt x="7513" y="421"/>
                  <a:pt x="7534" y="421"/>
                </a:cubicBezTo>
                <a:cubicBezTo>
                  <a:pt x="7660" y="421"/>
                  <a:pt x="7660" y="421"/>
                  <a:pt x="7660" y="421"/>
                </a:cubicBezTo>
                <a:cubicBezTo>
                  <a:pt x="7681" y="421"/>
                  <a:pt x="7696" y="432"/>
                  <a:pt x="7705" y="454"/>
                </a:cubicBezTo>
                <a:cubicBezTo>
                  <a:pt x="7997" y="1218"/>
                  <a:pt x="7997" y="1218"/>
                  <a:pt x="7997" y="1218"/>
                </a:cubicBezTo>
                <a:moveTo>
                  <a:pt x="3159" y="421"/>
                </a:moveTo>
                <a:cubicBezTo>
                  <a:pt x="3055" y="421"/>
                  <a:pt x="3055" y="421"/>
                  <a:pt x="3055" y="421"/>
                </a:cubicBezTo>
                <a:cubicBezTo>
                  <a:pt x="3035" y="421"/>
                  <a:pt x="3015" y="438"/>
                  <a:pt x="3015" y="461"/>
                </a:cubicBezTo>
                <a:cubicBezTo>
                  <a:pt x="3015" y="531"/>
                  <a:pt x="3015" y="531"/>
                  <a:pt x="3015" y="531"/>
                </a:cubicBezTo>
                <a:cubicBezTo>
                  <a:pt x="2963" y="452"/>
                  <a:pt x="2861" y="397"/>
                  <a:pt x="2741" y="397"/>
                </a:cubicBezTo>
                <a:cubicBezTo>
                  <a:pt x="2514" y="397"/>
                  <a:pt x="2318" y="577"/>
                  <a:pt x="2318" y="839"/>
                </a:cubicBezTo>
                <a:cubicBezTo>
                  <a:pt x="2318" y="1105"/>
                  <a:pt x="2514" y="1283"/>
                  <a:pt x="2739" y="1283"/>
                </a:cubicBezTo>
                <a:cubicBezTo>
                  <a:pt x="2861" y="1283"/>
                  <a:pt x="2961" y="1227"/>
                  <a:pt x="3015" y="1148"/>
                </a:cubicBezTo>
                <a:cubicBezTo>
                  <a:pt x="3015" y="1222"/>
                  <a:pt x="3015" y="1222"/>
                  <a:pt x="3015" y="1222"/>
                </a:cubicBezTo>
                <a:cubicBezTo>
                  <a:pt x="3015" y="1243"/>
                  <a:pt x="3035" y="1260"/>
                  <a:pt x="3055" y="1260"/>
                </a:cubicBezTo>
                <a:cubicBezTo>
                  <a:pt x="3159" y="1260"/>
                  <a:pt x="3159" y="1260"/>
                  <a:pt x="3159" y="1260"/>
                </a:cubicBezTo>
                <a:cubicBezTo>
                  <a:pt x="3180" y="1260"/>
                  <a:pt x="3197" y="1243"/>
                  <a:pt x="3197" y="1222"/>
                </a:cubicBezTo>
                <a:cubicBezTo>
                  <a:pt x="3197" y="461"/>
                  <a:pt x="3197" y="461"/>
                  <a:pt x="3197" y="461"/>
                </a:cubicBezTo>
                <a:cubicBezTo>
                  <a:pt x="3197" y="438"/>
                  <a:pt x="3180" y="421"/>
                  <a:pt x="3159" y="421"/>
                </a:cubicBezTo>
                <a:moveTo>
                  <a:pt x="2760" y="1115"/>
                </a:moveTo>
                <a:cubicBezTo>
                  <a:pt x="2610" y="1115"/>
                  <a:pt x="2503" y="993"/>
                  <a:pt x="2503" y="841"/>
                </a:cubicBezTo>
                <a:cubicBezTo>
                  <a:pt x="2503" y="687"/>
                  <a:pt x="2610" y="568"/>
                  <a:pt x="2760" y="568"/>
                </a:cubicBezTo>
                <a:cubicBezTo>
                  <a:pt x="2909" y="568"/>
                  <a:pt x="3017" y="687"/>
                  <a:pt x="3017" y="841"/>
                </a:cubicBezTo>
                <a:cubicBezTo>
                  <a:pt x="3017" y="993"/>
                  <a:pt x="2909" y="1115"/>
                  <a:pt x="2760" y="1115"/>
                </a:cubicBezTo>
                <a:moveTo>
                  <a:pt x="4389" y="1141"/>
                </a:moveTo>
                <a:cubicBezTo>
                  <a:pt x="4412" y="1169"/>
                  <a:pt x="4393" y="1190"/>
                  <a:pt x="4381" y="1199"/>
                </a:cubicBezTo>
                <a:cubicBezTo>
                  <a:pt x="4309" y="1253"/>
                  <a:pt x="4214" y="1283"/>
                  <a:pt x="4111" y="1283"/>
                </a:cubicBezTo>
                <a:cubicBezTo>
                  <a:pt x="3851" y="1283"/>
                  <a:pt x="3678" y="1092"/>
                  <a:pt x="3678" y="841"/>
                </a:cubicBezTo>
                <a:cubicBezTo>
                  <a:pt x="3678" y="589"/>
                  <a:pt x="3851" y="397"/>
                  <a:pt x="4111" y="397"/>
                </a:cubicBezTo>
                <a:cubicBezTo>
                  <a:pt x="4214" y="397"/>
                  <a:pt x="4309" y="426"/>
                  <a:pt x="4381" y="480"/>
                </a:cubicBezTo>
                <a:cubicBezTo>
                  <a:pt x="4393" y="489"/>
                  <a:pt x="4410" y="508"/>
                  <a:pt x="4389" y="538"/>
                </a:cubicBezTo>
                <a:cubicBezTo>
                  <a:pt x="4340" y="606"/>
                  <a:pt x="4340" y="606"/>
                  <a:pt x="4340" y="606"/>
                </a:cubicBezTo>
                <a:cubicBezTo>
                  <a:pt x="4321" y="633"/>
                  <a:pt x="4298" y="626"/>
                  <a:pt x="4279" y="613"/>
                </a:cubicBezTo>
                <a:cubicBezTo>
                  <a:pt x="4234" y="585"/>
                  <a:pt x="4179" y="563"/>
                  <a:pt x="4117" y="563"/>
                </a:cubicBezTo>
                <a:cubicBezTo>
                  <a:pt x="3964" y="563"/>
                  <a:pt x="3863" y="685"/>
                  <a:pt x="3863" y="841"/>
                </a:cubicBezTo>
                <a:cubicBezTo>
                  <a:pt x="3863" y="996"/>
                  <a:pt x="3964" y="1117"/>
                  <a:pt x="4117" y="1117"/>
                </a:cubicBezTo>
                <a:cubicBezTo>
                  <a:pt x="4179" y="1117"/>
                  <a:pt x="4230" y="1092"/>
                  <a:pt x="4276" y="1066"/>
                </a:cubicBezTo>
                <a:cubicBezTo>
                  <a:pt x="4295" y="1056"/>
                  <a:pt x="4316" y="1047"/>
                  <a:pt x="4337" y="1075"/>
                </a:cubicBezTo>
                <a:lnTo>
                  <a:pt x="4389" y="1141"/>
                </a:lnTo>
                <a:close/>
                <a:moveTo>
                  <a:pt x="4875" y="398"/>
                </a:moveTo>
                <a:cubicBezTo>
                  <a:pt x="4630" y="398"/>
                  <a:pt x="4435" y="591"/>
                  <a:pt x="4435" y="841"/>
                </a:cubicBezTo>
                <a:cubicBezTo>
                  <a:pt x="4435" y="1092"/>
                  <a:pt x="4630" y="1283"/>
                  <a:pt x="4875" y="1283"/>
                </a:cubicBezTo>
                <a:cubicBezTo>
                  <a:pt x="5120" y="1283"/>
                  <a:pt x="5316" y="1092"/>
                  <a:pt x="5316" y="841"/>
                </a:cubicBezTo>
                <a:cubicBezTo>
                  <a:pt x="5316" y="591"/>
                  <a:pt x="5120" y="398"/>
                  <a:pt x="4875" y="398"/>
                </a:cubicBezTo>
                <a:moveTo>
                  <a:pt x="4875" y="1113"/>
                </a:moveTo>
                <a:cubicBezTo>
                  <a:pt x="4725" y="1113"/>
                  <a:pt x="4618" y="993"/>
                  <a:pt x="4618" y="841"/>
                </a:cubicBezTo>
                <a:cubicBezTo>
                  <a:pt x="4618" y="687"/>
                  <a:pt x="4725" y="568"/>
                  <a:pt x="4875" y="568"/>
                </a:cubicBezTo>
                <a:cubicBezTo>
                  <a:pt x="5026" y="568"/>
                  <a:pt x="5132" y="687"/>
                  <a:pt x="5132" y="841"/>
                </a:cubicBezTo>
                <a:cubicBezTo>
                  <a:pt x="5132" y="993"/>
                  <a:pt x="5026" y="1113"/>
                  <a:pt x="4875" y="1113"/>
                </a:cubicBezTo>
                <a:moveTo>
                  <a:pt x="3520" y="23"/>
                </a:moveTo>
                <a:cubicBezTo>
                  <a:pt x="3543" y="23"/>
                  <a:pt x="3559" y="42"/>
                  <a:pt x="3559" y="63"/>
                </a:cubicBezTo>
                <a:cubicBezTo>
                  <a:pt x="3559" y="1220"/>
                  <a:pt x="3559" y="1220"/>
                  <a:pt x="3559" y="1220"/>
                </a:cubicBezTo>
                <a:cubicBezTo>
                  <a:pt x="3559" y="1241"/>
                  <a:pt x="3543" y="1260"/>
                  <a:pt x="3520" y="1260"/>
                </a:cubicBezTo>
                <a:cubicBezTo>
                  <a:pt x="3417" y="1260"/>
                  <a:pt x="3417" y="1260"/>
                  <a:pt x="3417" y="1260"/>
                </a:cubicBezTo>
                <a:cubicBezTo>
                  <a:pt x="3396" y="1260"/>
                  <a:pt x="3377" y="1241"/>
                  <a:pt x="3377" y="1220"/>
                </a:cubicBezTo>
                <a:cubicBezTo>
                  <a:pt x="3377" y="63"/>
                  <a:pt x="3377" y="63"/>
                  <a:pt x="3377" y="63"/>
                </a:cubicBezTo>
                <a:cubicBezTo>
                  <a:pt x="3377" y="42"/>
                  <a:pt x="3396" y="23"/>
                  <a:pt x="3417" y="23"/>
                </a:cubicBezTo>
                <a:cubicBezTo>
                  <a:pt x="3520" y="23"/>
                  <a:pt x="3520" y="23"/>
                  <a:pt x="3520" y="23"/>
                </a:cubicBezTo>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580" spc="-1" strike="noStrike">
              <a:solidFill>
                <a:srgbClr val="ffffff"/>
              </a:solidFill>
              <a:latin typeface="Microsoft Sans Serif"/>
            </a:endParaRPr>
          </a:p>
        </p:txBody>
      </p:sp>
      <p:sp>
        <p:nvSpPr>
          <p:cNvPr id="92" name="TextBox 38"/>
          <p:cNvSpPr/>
          <p:nvPr/>
        </p:nvSpPr>
        <p:spPr>
          <a:xfrm>
            <a:off x="4334040" y="5253840"/>
            <a:ext cx="7006680" cy="1487160"/>
          </a:xfrm>
          <a:prstGeom prst="rect">
            <a:avLst/>
          </a:prstGeom>
          <a:noFill/>
          <a:ln w="0">
            <a:noFill/>
          </a:ln>
        </p:spPr>
        <p:style>
          <a:lnRef idx="0"/>
          <a:fillRef idx="0"/>
          <a:effectRef idx="0"/>
          <a:fontRef idx="minor"/>
        </p:style>
        <p:txBody>
          <a:bodyPr numCol="2" spcCol="118800" lIns="0" rIns="0" tIns="0" bIns="0" anchor="t">
            <a:noAutofit/>
          </a:bodyPr>
          <a:p>
            <a:pPr>
              <a:lnSpc>
                <a:spcPct val="114000"/>
              </a:lnSpc>
              <a:spcAft>
                <a:spcPts val="300"/>
              </a:spcAft>
              <a:tabLst>
                <a:tab algn="l" pos="0"/>
              </a:tabLst>
            </a:pPr>
            <a:r>
              <a:rPr b="0" lang="en-US" sz="800" spc="-1" strike="noStrike">
                <a:solidFill>
                  <a:srgbClr val="ffffff"/>
                </a:solidFill>
                <a:latin typeface="Microsoft Sans Serif"/>
              </a:rPr>
              <a:t>Nothing in these materials is an offer to sell any of the components</a:t>
            </a:r>
            <a:br>
              <a:rPr sz="800"/>
            </a:br>
            <a:r>
              <a:rPr b="0" lang="en-US" sz="800" spc="-1" strike="noStrike">
                <a:solidFill>
                  <a:srgbClr val="ffffff"/>
                </a:solidFill>
                <a:latin typeface="Microsoft Sans Serif"/>
              </a:rPr>
              <a:t>or devices referenced herein.</a:t>
            </a: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2018-2022 Qualcomm Technologies, Inc. and/or its affiliated companies. All Rights Reserved.</a:t>
            </a: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Qualcomm is a trademark or registered trademark of Qualcomm Incorporated. Other products and brand names may be trademarks or registered trademarks of their respective owners.</a:t>
            </a:r>
            <a:endParaRPr b="0" lang="en-US" sz="800" spc="-1" strike="noStrike">
              <a:solidFill>
                <a:srgbClr val="000000"/>
              </a:solidFill>
              <a:latin typeface="Arial"/>
            </a:endParaRPr>
          </a:p>
          <a:p>
            <a:pPr>
              <a:lnSpc>
                <a:spcPct val="114000"/>
              </a:lnSpc>
              <a:spcAft>
                <a:spcPts val="300"/>
              </a:spcAft>
              <a:tabLst>
                <a:tab algn="l" pos="0"/>
              </a:tabLst>
            </a:pPr>
            <a:endParaRPr b="0" lang="en-US" sz="800" spc="-1" strike="noStrike">
              <a:solidFill>
                <a:srgbClr val="000000"/>
              </a:solidFill>
              <a:latin typeface="Arial"/>
            </a:endParaRPr>
          </a:p>
          <a:p>
            <a:pPr>
              <a:lnSpc>
                <a:spcPct val="114000"/>
              </a:lnSpc>
              <a:spcAft>
                <a:spcPts val="300"/>
              </a:spcAft>
              <a:tabLst>
                <a:tab algn="l" pos="0"/>
              </a:tabLst>
            </a:pP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References in this presentation to “Qualcomm” may mean Qualcomm Incorporated, Qualcomm Technologies, Inc., and/or other subsidiaries or business units within the Qualcomm corporate structure, as applicable. Qualcomm Incorporated includes our licensing business, QTL, and the vast majority of our patent portfolio. Qualcomm Technologies, Inc., a subsidiary of Qualcomm Incorporated, operates, along with its subsidiaries, substantially all of our engineering, research and development functions, and substantially all of our products and services businesses, including our QCT semiconductor business.</a:t>
            </a:r>
            <a:endParaRPr b="0" lang="en-US" sz="800" spc="-1" strike="noStrike">
              <a:solidFill>
                <a:srgbClr val="000000"/>
              </a:solidFill>
              <a:latin typeface="Arial"/>
            </a:endParaRPr>
          </a:p>
        </p:txBody>
      </p:sp>
      <p:grpSp>
        <p:nvGrpSpPr>
          <p:cNvPr id="93" name="Group 57"/>
          <p:cNvGrpSpPr/>
          <p:nvPr/>
        </p:nvGrpSpPr>
        <p:grpSpPr>
          <a:xfrm>
            <a:off x="1710720" y="5691960"/>
            <a:ext cx="775440" cy="137520"/>
            <a:chOff x="1710720" y="5691960"/>
            <a:chExt cx="775440" cy="137520"/>
          </a:xfrm>
        </p:grpSpPr>
        <p:sp>
          <p:nvSpPr>
            <p:cNvPr id="94" name="Freeform 12"/>
            <p:cNvSpPr/>
            <p:nvPr/>
          </p:nvSpPr>
          <p:spPr>
            <a:xfrm>
              <a:off x="1863360" y="5692320"/>
              <a:ext cx="168480" cy="136800"/>
            </a:xfrm>
            <a:custGeom>
              <a:avLst/>
              <a:gdLst>
                <a:gd name="textAreaLeft" fmla="*/ 0 w 168480"/>
                <a:gd name="textAreaRight" fmla="*/ 168840 w 168480"/>
                <a:gd name="textAreaTop" fmla="*/ 0 h 136800"/>
                <a:gd name="textAreaBottom" fmla="*/ 137160 h 136800"/>
              </a:gdLst>
              <a:ahLst/>
              <a:rect l="textAreaLeft" t="textAreaTop" r="textAreaRight" b="textAreaBottom"/>
              <a:pathLst>
                <a:path w="800" h="650">
                  <a:moveTo>
                    <a:pt x="800" y="77"/>
                  </a:moveTo>
                  <a:cubicBezTo>
                    <a:pt x="771" y="90"/>
                    <a:pt x="739" y="99"/>
                    <a:pt x="706" y="103"/>
                  </a:cubicBezTo>
                  <a:cubicBezTo>
                    <a:pt x="740" y="82"/>
                    <a:pt x="766" y="50"/>
                    <a:pt x="778" y="12"/>
                  </a:cubicBezTo>
                  <a:cubicBezTo>
                    <a:pt x="746" y="31"/>
                    <a:pt x="711" y="44"/>
                    <a:pt x="674" y="52"/>
                  </a:cubicBezTo>
                  <a:cubicBezTo>
                    <a:pt x="644" y="20"/>
                    <a:pt x="601" y="0"/>
                    <a:pt x="554" y="0"/>
                  </a:cubicBezTo>
                  <a:cubicBezTo>
                    <a:pt x="463" y="0"/>
                    <a:pt x="390" y="73"/>
                    <a:pt x="390" y="164"/>
                  </a:cubicBezTo>
                  <a:cubicBezTo>
                    <a:pt x="390" y="177"/>
                    <a:pt x="391" y="189"/>
                    <a:pt x="394" y="201"/>
                  </a:cubicBezTo>
                  <a:cubicBezTo>
                    <a:pt x="258" y="195"/>
                    <a:pt x="137" y="129"/>
                    <a:pt x="56" y="30"/>
                  </a:cubicBezTo>
                  <a:cubicBezTo>
                    <a:pt x="42" y="54"/>
                    <a:pt x="33" y="82"/>
                    <a:pt x="33" y="112"/>
                  </a:cubicBezTo>
                  <a:cubicBezTo>
                    <a:pt x="33" y="169"/>
                    <a:pt x="62" y="220"/>
                    <a:pt x="106" y="249"/>
                  </a:cubicBezTo>
                  <a:cubicBezTo>
                    <a:pt x="80" y="248"/>
                    <a:pt x="54" y="241"/>
                    <a:pt x="32" y="229"/>
                  </a:cubicBezTo>
                  <a:cubicBezTo>
                    <a:pt x="32" y="229"/>
                    <a:pt x="32" y="230"/>
                    <a:pt x="32" y="231"/>
                  </a:cubicBezTo>
                  <a:cubicBezTo>
                    <a:pt x="32" y="310"/>
                    <a:pt x="89" y="376"/>
                    <a:pt x="164" y="392"/>
                  </a:cubicBezTo>
                  <a:cubicBezTo>
                    <a:pt x="150" y="395"/>
                    <a:pt x="136" y="397"/>
                    <a:pt x="121" y="397"/>
                  </a:cubicBezTo>
                  <a:cubicBezTo>
                    <a:pt x="110" y="397"/>
                    <a:pt x="100" y="396"/>
                    <a:pt x="90" y="394"/>
                  </a:cubicBezTo>
                  <a:cubicBezTo>
                    <a:pt x="111" y="460"/>
                    <a:pt x="171" y="507"/>
                    <a:pt x="243" y="508"/>
                  </a:cubicBezTo>
                  <a:cubicBezTo>
                    <a:pt x="187" y="552"/>
                    <a:pt x="116" y="579"/>
                    <a:pt x="39" y="579"/>
                  </a:cubicBezTo>
                  <a:cubicBezTo>
                    <a:pt x="26" y="579"/>
                    <a:pt x="13" y="578"/>
                    <a:pt x="0" y="576"/>
                  </a:cubicBezTo>
                  <a:cubicBezTo>
                    <a:pt x="73" y="623"/>
                    <a:pt x="159" y="650"/>
                    <a:pt x="252" y="650"/>
                  </a:cubicBezTo>
                  <a:cubicBezTo>
                    <a:pt x="553" y="650"/>
                    <a:pt x="719" y="400"/>
                    <a:pt x="719" y="183"/>
                  </a:cubicBezTo>
                  <a:cubicBezTo>
                    <a:pt x="719" y="176"/>
                    <a:pt x="718" y="169"/>
                    <a:pt x="718" y="162"/>
                  </a:cubicBezTo>
                  <a:cubicBezTo>
                    <a:pt x="750" y="139"/>
                    <a:pt x="778" y="110"/>
                    <a:pt x="800" y="77"/>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nvGrpSpPr>
            <p:cNvPr id="95" name="Group 5"/>
            <p:cNvGrpSpPr/>
            <p:nvPr/>
          </p:nvGrpSpPr>
          <p:grpSpPr>
            <a:xfrm>
              <a:off x="2120760" y="5692320"/>
              <a:ext cx="137520" cy="135720"/>
              <a:chOff x="2120760" y="5692320"/>
              <a:chExt cx="137520" cy="135720"/>
            </a:xfrm>
          </p:grpSpPr>
          <p:sp>
            <p:nvSpPr>
              <p:cNvPr id="96" name="Freeform 6"/>
              <p:cNvSpPr/>
              <p:nvPr/>
            </p:nvSpPr>
            <p:spPr>
              <a:xfrm>
                <a:off x="2120760" y="5692320"/>
                <a:ext cx="30960" cy="135720"/>
              </a:xfrm>
              <a:custGeom>
                <a:avLst/>
                <a:gdLst>
                  <a:gd name="textAreaLeft" fmla="*/ 0 w 30960"/>
                  <a:gd name="textAreaRight" fmla="*/ 31320 w 30960"/>
                  <a:gd name="textAreaTop" fmla="*/ 0 h 135720"/>
                  <a:gd name="textAreaBottom" fmla="*/ 136080 h 135720"/>
                </a:gdLst>
                <a:ahLst/>
                <a:rect l="textAreaLeft" t="textAreaTop" r="textAreaRight" b="textAreaBottom"/>
                <a:pathLst>
                  <a:path w="98" h="427">
                    <a:moveTo>
                      <a:pt x="98" y="46"/>
                    </a:moveTo>
                    <a:cubicBezTo>
                      <a:pt x="98" y="72"/>
                      <a:pt x="79" y="92"/>
                      <a:pt x="48" y="92"/>
                    </a:cubicBezTo>
                    <a:cubicBezTo>
                      <a:pt x="18" y="92"/>
                      <a:pt x="0" y="72"/>
                      <a:pt x="0" y="46"/>
                    </a:cubicBezTo>
                    <a:cubicBezTo>
                      <a:pt x="0" y="20"/>
                      <a:pt x="19" y="0"/>
                      <a:pt x="49" y="0"/>
                    </a:cubicBezTo>
                    <a:cubicBezTo>
                      <a:pt x="79" y="0"/>
                      <a:pt x="97" y="20"/>
                      <a:pt x="98" y="46"/>
                    </a:cubicBezTo>
                    <a:close/>
                    <a:moveTo>
                      <a:pt x="2" y="427"/>
                    </a:moveTo>
                    <a:cubicBezTo>
                      <a:pt x="2" y="129"/>
                      <a:pt x="2" y="129"/>
                      <a:pt x="2" y="129"/>
                    </a:cubicBezTo>
                    <a:cubicBezTo>
                      <a:pt x="95" y="129"/>
                      <a:pt x="95" y="129"/>
                      <a:pt x="95" y="129"/>
                    </a:cubicBezTo>
                    <a:cubicBezTo>
                      <a:pt x="95" y="427"/>
                      <a:pt x="95" y="427"/>
                      <a:pt x="95" y="427"/>
                    </a:cubicBezTo>
                    <a:lnTo>
                      <a:pt x="2" y="427"/>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sp>
            <p:nvSpPr>
              <p:cNvPr id="97" name="Freeform 7"/>
              <p:cNvSpPr/>
              <p:nvPr/>
            </p:nvSpPr>
            <p:spPr>
              <a:xfrm>
                <a:off x="2168280" y="5731200"/>
                <a:ext cx="90000" cy="96840"/>
              </a:xfrm>
              <a:custGeom>
                <a:avLst/>
                <a:gdLst>
                  <a:gd name="textAreaLeft" fmla="*/ 0 w 90000"/>
                  <a:gd name="textAreaRight" fmla="*/ 90360 w 90000"/>
                  <a:gd name="textAreaTop" fmla="*/ 0 h 96840"/>
                  <a:gd name="textAreaBottom" fmla="*/ 97200 h 96840"/>
                </a:gdLst>
                <a:ahLst/>
                <a:rect l="textAreaLeft" t="textAreaTop" r="textAreaRight" b="textAreaBottom"/>
                <a:pathLst>
                  <a:path w="284" h="305">
                    <a:moveTo>
                      <a:pt x="2" y="102"/>
                    </a:moveTo>
                    <a:cubicBezTo>
                      <a:pt x="2" y="65"/>
                      <a:pt x="1" y="34"/>
                      <a:pt x="0" y="7"/>
                    </a:cubicBezTo>
                    <a:cubicBezTo>
                      <a:pt x="80" y="7"/>
                      <a:pt x="80" y="7"/>
                      <a:pt x="80" y="7"/>
                    </a:cubicBezTo>
                    <a:cubicBezTo>
                      <a:pt x="84" y="48"/>
                      <a:pt x="84" y="48"/>
                      <a:pt x="84" y="48"/>
                    </a:cubicBezTo>
                    <a:cubicBezTo>
                      <a:pt x="86" y="48"/>
                      <a:pt x="86" y="48"/>
                      <a:pt x="86" y="48"/>
                    </a:cubicBezTo>
                    <a:cubicBezTo>
                      <a:pt x="98" y="29"/>
                      <a:pt x="128" y="0"/>
                      <a:pt x="178" y="0"/>
                    </a:cubicBezTo>
                    <a:cubicBezTo>
                      <a:pt x="239" y="0"/>
                      <a:pt x="284" y="41"/>
                      <a:pt x="284" y="129"/>
                    </a:cubicBezTo>
                    <a:cubicBezTo>
                      <a:pt x="284" y="305"/>
                      <a:pt x="284" y="305"/>
                      <a:pt x="284" y="305"/>
                    </a:cubicBezTo>
                    <a:cubicBezTo>
                      <a:pt x="192" y="305"/>
                      <a:pt x="192" y="305"/>
                      <a:pt x="192" y="305"/>
                    </a:cubicBezTo>
                    <a:cubicBezTo>
                      <a:pt x="192" y="140"/>
                      <a:pt x="192" y="140"/>
                      <a:pt x="192" y="140"/>
                    </a:cubicBezTo>
                    <a:cubicBezTo>
                      <a:pt x="192" y="101"/>
                      <a:pt x="178" y="75"/>
                      <a:pt x="145" y="75"/>
                    </a:cubicBezTo>
                    <a:cubicBezTo>
                      <a:pt x="119" y="75"/>
                      <a:pt x="104" y="93"/>
                      <a:pt x="98" y="110"/>
                    </a:cubicBezTo>
                    <a:cubicBezTo>
                      <a:pt x="95" y="116"/>
                      <a:pt x="94" y="124"/>
                      <a:pt x="94" y="133"/>
                    </a:cubicBezTo>
                    <a:cubicBezTo>
                      <a:pt x="94" y="305"/>
                      <a:pt x="94" y="305"/>
                      <a:pt x="94" y="305"/>
                    </a:cubicBezTo>
                    <a:cubicBezTo>
                      <a:pt x="2" y="305"/>
                      <a:pt x="2" y="305"/>
                      <a:pt x="2" y="305"/>
                    </a:cubicBezTo>
                    <a:lnTo>
                      <a:pt x="2" y="102"/>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sp>
          <p:nvSpPr>
            <p:cNvPr id="98" name="Freeform 5"/>
            <p:cNvSpPr/>
            <p:nvPr/>
          </p:nvSpPr>
          <p:spPr>
            <a:xfrm>
              <a:off x="1710720" y="5691960"/>
              <a:ext cx="63720" cy="137520"/>
            </a:xfrm>
            <a:custGeom>
              <a:avLst/>
              <a:gdLst>
                <a:gd name="textAreaLeft" fmla="*/ 0 w 63720"/>
                <a:gd name="textAreaRight" fmla="*/ 64080 w 63720"/>
                <a:gd name="textAreaTop" fmla="*/ 0 h 137520"/>
                <a:gd name="textAreaBottom" fmla="*/ 137880 h 137520"/>
              </a:gdLst>
              <a:ahLst/>
              <a:rect l="textAreaLeft" t="textAreaTop" r="textAreaRight" b="textAreaBottom"/>
              <a:pathLst>
                <a:path w="90" h="193">
                  <a:moveTo>
                    <a:pt x="60" y="193"/>
                  </a:moveTo>
                  <a:cubicBezTo>
                    <a:pt x="20" y="193"/>
                    <a:pt x="20" y="193"/>
                    <a:pt x="20" y="193"/>
                  </a:cubicBezTo>
                  <a:cubicBezTo>
                    <a:pt x="20" y="97"/>
                    <a:pt x="20" y="97"/>
                    <a:pt x="20" y="97"/>
                  </a:cubicBezTo>
                  <a:cubicBezTo>
                    <a:pt x="0" y="97"/>
                    <a:pt x="0" y="97"/>
                    <a:pt x="0" y="97"/>
                  </a:cubicBezTo>
                  <a:cubicBezTo>
                    <a:pt x="0" y="63"/>
                    <a:pt x="0" y="63"/>
                    <a:pt x="0" y="63"/>
                  </a:cubicBezTo>
                  <a:cubicBezTo>
                    <a:pt x="20" y="63"/>
                    <a:pt x="20" y="63"/>
                    <a:pt x="20" y="63"/>
                  </a:cubicBezTo>
                  <a:cubicBezTo>
                    <a:pt x="20" y="44"/>
                    <a:pt x="20" y="44"/>
                    <a:pt x="20" y="44"/>
                  </a:cubicBezTo>
                  <a:cubicBezTo>
                    <a:pt x="20" y="16"/>
                    <a:pt x="31" y="0"/>
                    <a:pt x="63" y="0"/>
                  </a:cubicBezTo>
                  <a:cubicBezTo>
                    <a:pt x="89" y="0"/>
                    <a:pt x="89" y="0"/>
                    <a:pt x="89" y="0"/>
                  </a:cubicBezTo>
                  <a:cubicBezTo>
                    <a:pt x="89" y="34"/>
                    <a:pt x="89" y="34"/>
                    <a:pt x="89" y="34"/>
                  </a:cubicBezTo>
                  <a:cubicBezTo>
                    <a:pt x="73" y="34"/>
                    <a:pt x="73" y="34"/>
                    <a:pt x="73" y="34"/>
                  </a:cubicBezTo>
                  <a:cubicBezTo>
                    <a:pt x="60" y="34"/>
                    <a:pt x="60" y="38"/>
                    <a:pt x="60" y="47"/>
                  </a:cubicBezTo>
                  <a:cubicBezTo>
                    <a:pt x="60" y="63"/>
                    <a:pt x="60" y="63"/>
                    <a:pt x="60" y="63"/>
                  </a:cubicBezTo>
                  <a:cubicBezTo>
                    <a:pt x="90" y="63"/>
                    <a:pt x="90" y="63"/>
                    <a:pt x="90" y="63"/>
                  </a:cubicBezTo>
                  <a:cubicBezTo>
                    <a:pt x="86" y="97"/>
                    <a:pt x="86" y="97"/>
                    <a:pt x="86" y="97"/>
                  </a:cubicBezTo>
                  <a:cubicBezTo>
                    <a:pt x="60" y="97"/>
                    <a:pt x="60" y="97"/>
                    <a:pt x="60" y="97"/>
                  </a:cubicBezTo>
                  <a:lnTo>
                    <a:pt x="60" y="193"/>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nvGrpSpPr>
            <p:cNvPr id="99" name="Group 4"/>
            <p:cNvGrpSpPr/>
            <p:nvPr/>
          </p:nvGrpSpPr>
          <p:grpSpPr>
            <a:xfrm>
              <a:off x="2350440" y="5692320"/>
              <a:ext cx="135720" cy="135720"/>
              <a:chOff x="2350440" y="5692320"/>
              <a:chExt cx="135720" cy="135720"/>
            </a:xfrm>
          </p:grpSpPr>
          <p:sp>
            <p:nvSpPr>
              <p:cNvPr id="100" name="Freeform 5"/>
              <p:cNvSpPr/>
              <p:nvPr/>
            </p:nvSpPr>
            <p:spPr>
              <a:xfrm>
                <a:off x="2350440" y="5692320"/>
                <a:ext cx="135720" cy="135720"/>
              </a:xfrm>
              <a:custGeom>
                <a:avLst/>
                <a:gdLst>
                  <a:gd name="textAreaLeft" fmla="*/ 0 w 135720"/>
                  <a:gd name="textAreaRight" fmla="*/ 136080 w 135720"/>
                  <a:gd name="textAreaTop" fmla="*/ 0 h 135720"/>
                  <a:gd name="textAreaBottom" fmla="*/ 136080 h 135720"/>
                </a:gdLst>
                <a:ahLst/>
                <a:rect l="textAreaLeft" t="textAreaTop" r="textAreaRight" b="textAreaBottom"/>
                <a:pathLst>
                  <a:path w="2016" h="2016">
                    <a:moveTo>
                      <a:pt x="1008" y="182"/>
                    </a:moveTo>
                    <a:cubicBezTo>
                      <a:pt x="1277" y="182"/>
                      <a:pt x="1309" y="183"/>
                      <a:pt x="1415" y="188"/>
                    </a:cubicBezTo>
                    <a:cubicBezTo>
                      <a:pt x="1513" y="192"/>
                      <a:pt x="1567" y="209"/>
                      <a:pt x="1602" y="222"/>
                    </a:cubicBezTo>
                    <a:cubicBezTo>
                      <a:pt x="1649" y="241"/>
                      <a:pt x="1683" y="263"/>
                      <a:pt x="1718" y="298"/>
                    </a:cubicBezTo>
                    <a:cubicBezTo>
                      <a:pt x="1753" y="333"/>
                      <a:pt x="1775" y="367"/>
                      <a:pt x="1794" y="414"/>
                    </a:cubicBezTo>
                    <a:cubicBezTo>
                      <a:pt x="1807" y="449"/>
                      <a:pt x="1824" y="503"/>
                      <a:pt x="1828" y="601"/>
                    </a:cubicBezTo>
                    <a:cubicBezTo>
                      <a:pt x="1833" y="707"/>
                      <a:pt x="1834" y="739"/>
                      <a:pt x="1834" y="1008"/>
                    </a:cubicBezTo>
                    <a:cubicBezTo>
                      <a:pt x="1834" y="1277"/>
                      <a:pt x="1833" y="1309"/>
                      <a:pt x="1828" y="1415"/>
                    </a:cubicBezTo>
                    <a:cubicBezTo>
                      <a:pt x="1824" y="1513"/>
                      <a:pt x="1807" y="1567"/>
                      <a:pt x="1794" y="1602"/>
                    </a:cubicBezTo>
                    <a:cubicBezTo>
                      <a:pt x="1775" y="1649"/>
                      <a:pt x="1753" y="1683"/>
                      <a:pt x="1718" y="1718"/>
                    </a:cubicBezTo>
                    <a:cubicBezTo>
                      <a:pt x="1683" y="1753"/>
                      <a:pt x="1649" y="1775"/>
                      <a:pt x="1602" y="1794"/>
                    </a:cubicBezTo>
                    <a:cubicBezTo>
                      <a:pt x="1567" y="1807"/>
                      <a:pt x="1513" y="1824"/>
                      <a:pt x="1415" y="1828"/>
                    </a:cubicBezTo>
                    <a:cubicBezTo>
                      <a:pt x="1309" y="1833"/>
                      <a:pt x="1277" y="1834"/>
                      <a:pt x="1008" y="1834"/>
                    </a:cubicBezTo>
                    <a:cubicBezTo>
                      <a:pt x="739" y="1834"/>
                      <a:pt x="707" y="1833"/>
                      <a:pt x="601" y="1828"/>
                    </a:cubicBezTo>
                    <a:cubicBezTo>
                      <a:pt x="503" y="1824"/>
                      <a:pt x="449" y="1807"/>
                      <a:pt x="414" y="1794"/>
                    </a:cubicBezTo>
                    <a:cubicBezTo>
                      <a:pt x="367" y="1775"/>
                      <a:pt x="333" y="1753"/>
                      <a:pt x="298" y="1718"/>
                    </a:cubicBezTo>
                    <a:cubicBezTo>
                      <a:pt x="263" y="1683"/>
                      <a:pt x="241" y="1649"/>
                      <a:pt x="222" y="1602"/>
                    </a:cubicBezTo>
                    <a:cubicBezTo>
                      <a:pt x="209" y="1567"/>
                      <a:pt x="192" y="1513"/>
                      <a:pt x="188" y="1415"/>
                    </a:cubicBezTo>
                    <a:cubicBezTo>
                      <a:pt x="183" y="1309"/>
                      <a:pt x="182" y="1277"/>
                      <a:pt x="182" y="1008"/>
                    </a:cubicBezTo>
                    <a:cubicBezTo>
                      <a:pt x="182" y="739"/>
                      <a:pt x="183" y="707"/>
                      <a:pt x="188" y="601"/>
                    </a:cubicBezTo>
                    <a:cubicBezTo>
                      <a:pt x="192" y="503"/>
                      <a:pt x="209" y="449"/>
                      <a:pt x="222" y="414"/>
                    </a:cubicBezTo>
                    <a:cubicBezTo>
                      <a:pt x="241" y="367"/>
                      <a:pt x="263" y="333"/>
                      <a:pt x="298" y="298"/>
                    </a:cubicBezTo>
                    <a:cubicBezTo>
                      <a:pt x="333" y="263"/>
                      <a:pt x="367" y="241"/>
                      <a:pt x="414" y="222"/>
                    </a:cubicBezTo>
                    <a:cubicBezTo>
                      <a:pt x="449" y="209"/>
                      <a:pt x="503" y="192"/>
                      <a:pt x="601" y="188"/>
                    </a:cubicBezTo>
                    <a:cubicBezTo>
                      <a:pt x="707" y="183"/>
                      <a:pt x="739" y="182"/>
                      <a:pt x="1008" y="182"/>
                    </a:cubicBezTo>
                    <a:moveTo>
                      <a:pt x="1008" y="0"/>
                    </a:moveTo>
                    <a:cubicBezTo>
                      <a:pt x="734" y="0"/>
                      <a:pt x="700" y="1"/>
                      <a:pt x="593" y="6"/>
                    </a:cubicBezTo>
                    <a:cubicBezTo>
                      <a:pt x="485" y="11"/>
                      <a:pt x="412" y="28"/>
                      <a:pt x="348" y="53"/>
                    </a:cubicBezTo>
                    <a:cubicBezTo>
                      <a:pt x="282" y="79"/>
                      <a:pt x="225" y="113"/>
                      <a:pt x="169" y="169"/>
                    </a:cubicBezTo>
                    <a:cubicBezTo>
                      <a:pt x="113" y="225"/>
                      <a:pt x="79" y="282"/>
                      <a:pt x="53" y="348"/>
                    </a:cubicBezTo>
                    <a:cubicBezTo>
                      <a:pt x="28" y="412"/>
                      <a:pt x="11" y="485"/>
                      <a:pt x="6" y="593"/>
                    </a:cubicBezTo>
                    <a:cubicBezTo>
                      <a:pt x="1" y="700"/>
                      <a:pt x="0" y="734"/>
                      <a:pt x="0" y="1008"/>
                    </a:cubicBezTo>
                    <a:cubicBezTo>
                      <a:pt x="0" y="1282"/>
                      <a:pt x="1" y="1316"/>
                      <a:pt x="6" y="1423"/>
                    </a:cubicBezTo>
                    <a:cubicBezTo>
                      <a:pt x="11" y="1531"/>
                      <a:pt x="28" y="1604"/>
                      <a:pt x="53" y="1668"/>
                    </a:cubicBezTo>
                    <a:cubicBezTo>
                      <a:pt x="79" y="1734"/>
                      <a:pt x="113" y="1791"/>
                      <a:pt x="169" y="1847"/>
                    </a:cubicBezTo>
                    <a:cubicBezTo>
                      <a:pt x="225" y="1903"/>
                      <a:pt x="282" y="1937"/>
                      <a:pt x="348" y="1963"/>
                    </a:cubicBezTo>
                    <a:cubicBezTo>
                      <a:pt x="412" y="1988"/>
                      <a:pt x="485" y="2005"/>
                      <a:pt x="593" y="2010"/>
                    </a:cubicBezTo>
                    <a:cubicBezTo>
                      <a:pt x="700" y="2015"/>
                      <a:pt x="734" y="2016"/>
                      <a:pt x="1008" y="2016"/>
                    </a:cubicBezTo>
                    <a:cubicBezTo>
                      <a:pt x="1282" y="2016"/>
                      <a:pt x="1316" y="2015"/>
                      <a:pt x="1423" y="2010"/>
                    </a:cubicBezTo>
                    <a:cubicBezTo>
                      <a:pt x="1531" y="2005"/>
                      <a:pt x="1604" y="1988"/>
                      <a:pt x="1668" y="1963"/>
                    </a:cubicBezTo>
                    <a:cubicBezTo>
                      <a:pt x="1734" y="1937"/>
                      <a:pt x="1791" y="1903"/>
                      <a:pt x="1847" y="1847"/>
                    </a:cubicBezTo>
                    <a:cubicBezTo>
                      <a:pt x="1903" y="1791"/>
                      <a:pt x="1937" y="1734"/>
                      <a:pt x="1963" y="1668"/>
                    </a:cubicBezTo>
                    <a:cubicBezTo>
                      <a:pt x="1988" y="1604"/>
                      <a:pt x="2005" y="1531"/>
                      <a:pt x="2010" y="1423"/>
                    </a:cubicBezTo>
                    <a:cubicBezTo>
                      <a:pt x="2015" y="1316"/>
                      <a:pt x="2016" y="1282"/>
                      <a:pt x="2016" y="1008"/>
                    </a:cubicBezTo>
                    <a:cubicBezTo>
                      <a:pt x="2016" y="734"/>
                      <a:pt x="2015" y="700"/>
                      <a:pt x="2010" y="593"/>
                    </a:cubicBezTo>
                    <a:cubicBezTo>
                      <a:pt x="2005" y="485"/>
                      <a:pt x="1988" y="412"/>
                      <a:pt x="1963" y="348"/>
                    </a:cubicBezTo>
                    <a:cubicBezTo>
                      <a:pt x="1937" y="282"/>
                      <a:pt x="1903" y="225"/>
                      <a:pt x="1847" y="169"/>
                    </a:cubicBezTo>
                    <a:cubicBezTo>
                      <a:pt x="1791" y="113"/>
                      <a:pt x="1734" y="79"/>
                      <a:pt x="1668" y="53"/>
                    </a:cubicBezTo>
                    <a:cubicBezTo>
                      <a:pt x="1604" y="28"/>
                      <a:pt x="1531" y="11"/>
                      <a:pt x="1423" y="6"/>
                    </a:cubicBezTo>
                    <a:cubicBezTo>
                      <a:pt x="1316" y="1"/>
                      <a:pt x="1282" y="0"/>
                      <a:pt x="1008"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580" spc="-1" strike="noStrike">
                  <a:solidFill>
                    <a:srgbClr val="ffffff"/>
                  </a:solidFill>
                  <a:latin typeface="Microsoft Sans Serif"/>
                </a:endParaRPr>
              </a:p>
            </p:txBody>
          </p:sp>
          <p:sp>
            <p:nvSpPr>
              <p:cNvPr id="101" name="Freeform 6"/>
              <p:cNvSpPr/>
              <p:nvPr/>
            </p:nvSpPr>
            <p:spPr>
              <a:xfrm>
                <a:off x="2383560" y="5725440"/>
                <a:ext cx="69480" cy="69480"/>
              </a:xfrm>
              <a:custGeom>
                <a:avLst/>
                <a:gdLst>
                  <a:gd name="textAreaLeft" fmla="*/ 0 w 69480"/>
                  <a:gd name="textAreaRight" fmla="*/ 69840 w 69480"/>
                  <a:gd name="textAreaTop" fmla="*/ 0 h 69480"/>
                  <a:gd name="textAreaBottom" fmla="*/ 69840 h 69480"/>
                </a:gdLst>
                <a:ahLst/>
                <a:rect l="textAreaLeft" t="textAreaTop" r="textAreaRight" b="textAreaBottom"/>
                <a:pathLst>
                  <a:path w="1034" h="1034">
                    <a:moveTo>
                      <a:pt x="517" y="0"/>
                    </a:moveTo>
                    <a:cubicBezTo>
                      <a:pt x="231" y="0"/>
                      <a:pt x="0" y="231"/>
                      <a:pt x="0" y="517"/>
                    </a:cubicBezTo>
                    <a:cubicBezTo>
                      <a:pt x="0" y="803"/>
                      <a:pt x="231" y="1034"/>
                      <a:pt x="517" y="1034"/>
                    </a:cubicBezTo>
                    <a:cubicBezTo>
                      <a:pt x="803" y="1034"/>
                      <a:pt x="1034" y="803"/>
                      <a:pt x="1034" y="517"/>
                    </a:cubicBezTo>
                    <a:cubicBezTo>
                      <a:pt x="1034" y="231"/>
                      <a:pt x="803" y="0"/>
                      <a:pt x="517" y="0"/>
                    </a:cubicBezTo>
                    <a:close/>
                    <a:moveTo>
                      <a:pt x="517" y="853"/>
                    </a:moveTo>
                    <a:cubicBezTo>
                      <a:pt x="331" y="853"/>
                      <a:pt x="181" y="703"/>
                      <a:pt x="181" y="517"/>
                    </a:cubicBezTo>
                    <a:cubicBezTo>
                      <a:pt x="181" y="331"/>
                      <a:pt x="331" y="181"/>
                      <a:pt x="517" y="181"/>
                    </a:cubicBezTo>
                    <a:cubicBezTo>
                      <a:pt x="703" y="181"/>
                      <a:pt x="853" y="331"/>
                      <a:pt x="853" y="517"/>
                    </a:cubicBezTo>
                    <a:cubicBezTo>
                      <a:pt x="853" y="703"/>
                      <a:pt x="703" y="853"/>
                      <a:pt x="517" y="853"/>
                    </a:cubicBezTo>
                    <a:close/>
                  </a:path>
                </a:pathLst>
              </a:custGeom>
              <a:solidFill>
                <a:schemeClr val="bg1"/>
              </a:solidFill>
              <a:ln w="0">
                <a:noFill/>
              </a:ln>
            </p:spPr>
            <p:style>
              <a:lnRef idx="0"/>
              <a:fillRef idx="0"/>
              <a:effectRef idx="0"/>
              <a:fontRef idx="minor"/>
            </p:style>
            <p:txBody>
              <a:bodyPr numCol="1" spcCol="0" tIns="34920" bIns="34920" anchor="t">
                <a:noAutofit/>
              </a:bodyPr>
              <a:p>
                <a:pPr>
                  <a:lnSpc>
                    <a:spcPct val="100000"/>
                  </a:lnSpc>
                </a:pPr>
                <a:endParaRPr b="0" lang="en-US" sz="1580" spc="-1" strike="noStrike">
                  <a:solidFill>
                    <a:srgbClr val="ffffff"/>
                  </a:solidFill>
                  <a:latin typeface="Microsoft Sans Serif"/>
                </a:endParaRPr>
              </a:p>
            </p:txBody>
          </p:sp>
          <p:sp>
            <p:nvSpPr>
              <p:cNvPr id="102" name="Oval 7"/>
              <p:cNvSpPr/>
              <p:nvPr/>
            </p:nvSpPr>
            <p:spPr>
              <a:xfrm>
                <a:off x="2446560" y="5716080"/>
                <a:ext cx="15840" cy="15840"/>
              </a:xfrm>
              <a:prstGeom prst="ellipse">
                <a:avLst/>
              </a:prstGeom>
              <a:solidFill>
                <a:schemeClr val="bg1"/>
              </a:solidFill>
              <a:ln w="0">
                <a:noFill/>
              </a:ln>
            </p:spPr>
            <p:style>
              <a:lnRef idx="0"/>
              <a:fillRef idx="0"/>
              <a:effectRef idx="0"/>
              <a:fontRef idx="minor"/>
            </p:style>
            <p:txBody>
              <a:bodyPr numCol="1" spcCol="0" tIns="5760" bIns="5760" anchor="t">
                <a:noAutofit/>
              </a:bodyPr>
              <a:p>
                <a:pPr>
                  <a:lnSpc>
                    <a:spcPct val="100000"/>
                  </a:lnSpc>
                </a:pPr>
                <a:endParaRPr b="0" lang="en-US" sz="1580" spc="-1" strike="noStrike">
                  <a:solidFill>
                    <a:srgbClr val="ffffff"/>
                  </a:solidFill>
                  <a:latin typeface="Microsoft Sans Serif"/>
                </a:endParaRPr>
              </a:p>
            </p:txBody>
          </p:sp>
        </p:grpSp>
      </p:grpSp>
      <p:sp>
        <p:nvSpPr>
          <p:cNvPr id="103" name="TextBox 67"/>
          <p:cNvSpPr/>
          <p:nvPr/>
        </p:nvSpPr>
        <p:spPr>
          <a:xfrm>
            <a:off x="847800" y="5688000"/>
            <a:ext cx="3126960" cy="622440"/>
          </a:xfrm>
          <a:prstGeom prst="rect">
            <a:avLst/>
          </a:prstGeom>
          <a:noFill/>
          <a:ln w="0">
            <a:noFill/>
          </a:ln>
        </p:spPr>
        <p:style>
          <a:lnRef idx="0"/>
          <a:fillRef idx="0"/>
          <a:effectRef idx="0"/>
          <a:fontRef idx="minor"/>
        </p:style>
        <p:txBody>
          <a:bodyPr lIns="0" rIns="0" tIns="0" bIns="0" anchor="t">
            <a:spAutoFit/>
          </a:bodyPr>
          <a:p>
            <a:pPr>
              <a:lnSpc>
                <a:spcPct val="114000"/>
              </a:lnSpc>
              <a:spcAft>
                <a:spcPts val="300"/>
              </a:spcAft>
              <a:tabLst>
                <a:tab algn="l" pos="0"/>
              </a:tabLst>
            </a:pPr>
            <a:r>
              <a:rPr b="0" lang="en-US" sz="1050" spc="-1" strike="noStrike">
                <a:solidFill>
                  <a:srgbClr val="ffffff"/>
                </a:solidFill>
                <a:latin typeface="Microsoft Sans Serif"/>
              </a:rPr>
              <a:t>Follow us on:</a:t>
            </a:r>
            <a:endParaRPr b="0" lang="en-US" sz="1050" spc="-1" strike="noStrike">
              <a:solidFill>
                <a:srgbClr val="000000"/>
              </a:solidFill>
              <a:latin typeface="Arial"/>
            </a:endParaRPr>
          </a:p>
          <a:p>
            <a:pPr>
              <a:lnSpc>
                <a:spcPct val="114000"/>
              </a:lnSpc>
              <a:spcAft>
                <a:spcPts val="300"/>
              </a:spcAft>
              <a:tabLst>
                <a:tab algn="l" pos="0"/>
              </a:tabLst>
            </a:pPr>
            <a:r>
              <a:rPr b="0" lang="en-US" sz="1050" spc="-1" strike="noStrike">
                <a:solidFill>
                  <a:srgbClr val="ffffff"/>
                </a:solidFill>
                <a:latin typeface="Microsoft Sans Serif"/>
              </a:rPr>
              <a:t>For more information, visit us at:</a:t>
            </a:r>
            <a:endParaRPr b="0" lang="en-US" sz="1050" spc="-1" strike="noStrike">
              <a:solidFill>
                <a:srgbClr val="000000"/>
              </a:solidFill>
              <a:latin typeface="Arial"/>
            </a:endParaRPr>
          </a:p>
          <a:p>
            <a:pPr>
              <a:lnSpc>
                <a:spcPct val="114000"/>
              </a:lnSpc>
              <a:spcAft>
                <a:spcPts val="300"/>
              </a:spcAft>
              <a:tabLst>
                <a:tab algn="l" pos="0"/>
              </a:tabLst>
            </a:pPr>
            <a:r>
              <a:rPr b="0" lang="en-US" sz="1050" spc="-1" strike="noStrike">
                <a:solidFill>
                  <a:srgbClr val="ffffff"/>
                </a:solidFill>
                <a:latin typeface="Microsoft Sans Serif"/>
              </a:rPr>
              <a:t>www.qualcomm.com &amp; www.qualcomm.com/blog</a:t>
            </a:r>
            <a:endParaRPr b="0" lang="en-US" sz="1050" spc="-1" strike="noStrike">
              <a:solidFill>
                <a:srgbClr val="000000"/>
              </a:solidFill>
              <a:latin typeface="Arial"/>
            </a:endParaRPr>
          </a:p>
        </p:txBody>
      </p:sp>
      <p:sp>
        <p:nvSpPr>
          <p:cNvPr id="104" name="TextBox 17"/>
          <p:cNvSpPr/>
          <p:nvPr/>
        </p:nvSpPr>
        <p:spPr>
          <a:xfrm>
            <a:off x="465480" y="2536560"/>
            <a:ext cx="8725320" cy="159084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Lst>
            </a:pPr>
            <a:r>
              <a:rPr b="0" lang="en-US" sz="12000" spc="-301" strike="noStrike">
                <a:solidFill>
                  <a:srgbClr val="1f46c3"/>
                </a:solidFill>
                <a:latin typeface="Microsoft Sans Serif"/>
              </a:rPr>
              <a:t>Th</a:t>
            </a:r>
            <a:r>
              <a:rPr b="0" lang="en-US" sz="12000" spc="-602" strike="noStrike">
                <a:solidFill>
                  <a:srgbClr val="1f46c3"/>
                </a:solidFill>
                <a:latin typeface="Microsoft Sans Serif"/>
              </a:rPr>
              <a:t>a</a:t>
            </a:r>
            <a:r>
              <a:rPr b="0" lang="en-US" sz="12000" spc="-452" strike="noStrike">
                <a:solidFill>
                  <a:srgbClr val="1f46c3"/>
                </a:solidFill>
                <a:latin typeface="Microsoft Sans Serif"/>
              </a:rPr>
              <a:t>n</a:t>
            </a:r>
            <a:r>
              <a:rPr b="0" lang="en-US" sz="12000" spc="-602" strike="noStrike">
                <a:solidFill>
                  <a:srgbClr val="1f46c3"/>
                </a:solidFill>
                <a:latin typeface="Microsoft Sans Serif"/>
              </a:rPr>
              <a:t>k </a:t>
            </a:r>
            <a:r>
              <a:rPr b="0" lang="en-US" sz="12000" spc="-301" strike="noStrike">
                <a:solidFill>
                  <a:srgbClr val="1f46c3"/>
                </a:solidFill>
                <a:latin typeface="Microsoft Sans Serif"/>
              </a:rPr>
              <a:t>y</a:t>
            </a:r>
            <a:r>
              <a:rPr b="0" lang="en-US" sz="12000" spc="-1" strike="noStrike">
                <a:solidFill>
                  <a:srgbClr val="1f46c3"/>
                </a:solidFill>
                <a:latin typeface="Microsoft Sans Serif"/>
              </a:rPr>
              <a:t>o</a:t>
            </a:r>
            <a:r>
              <a:rPr b="0" lang="en-US" sz="12000" spc="-301" strike="noStrike">
                <a:solidFill>
                  <a:srgbClr val="1f46c3"/>
                </a:solidFill>
                <a:latin typeface="Microsoft Sans Serif"/>
              </a:rPr>
              <a:t>u</a:t>
            </a:r>
            <a:endParaRPr b="0" lang="en-US" sz="12000" spc="-1" strike="noStrike">
              <a:solidFill>
                <a:srgbClr val="000000"/>
              </a:solidFill>
              <a:latin typeface="Arial"/>
            </a:endParaRPr>
          </a:p>
        </p:txBody>
      </p:sp>
      <p:sp>
        <p:nvSpPr>
          <p:cNvPr id="10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580" spc="-1" strike="noStrike">
                <a:solidFill>
                  <a:srgbClr val="000000"/>
                </a:solidFill>
                <a:latin typeface="Microsoft Sans Serif"/>
              </a:rPr>
              <a:t>Click to edit the title text format</a:t>
            </a:r>
            <a:endParaRPr b="0" lang="en-US" sz="1580" spc="-1" strike="noStrike">
              <a:solidFill>
                <a:srgbClr val="000000"/>
              </a:solidFill>
              <a:latin typeface="Microsoft Sans Serif"/>
            </a:endParaRPr>
          </a:p>
        </p:txBody>
      </p:sp>
      <p:sp>
        <p:nvSpPr>
          <p:cNvPr id="10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107000"/>
              </a:lnSpc>
              <a:spcBef>
                <a:spcPts val="1417"/>
              </a:spcBef>
              <a:buClr>
                <a:srgbClr val="000000"/>
              </a:buClr>
              <a:buSzPct val="45000"/>
              <a:buFont typeface="Wingdings" charset="2"/>
              <a:buChar char=""/>
            </a:pPr>
            <a:r>
              <a:rPr b="0" lang="en-US" sz="2100" spc="-1" strike="noStrike">
                <a:solidFill>
                  <a:srgbClr val="262626"/>
                </a:solidFill>
                <a:latin typeface="Microsoft Sans Serif"/>
              </a:rPr>
              <a:t>Click to edit the outline text format</a:t>
            </a:r>
            <a:endParaRPr b="0" lang="en-US" sz="2100" spc="-1" strike="noStrike">
              <a:solidFill>
                <a:srgbClr val="262626"/>
              </a:solidFill>
              <a:latin typeface="Microsoft Sans Serif"/>
            </a:endParaRPr>
          </a:p>
          <a:p>
            <a:pPr lvl="1" marL="864000" indent="-324000">
              <a:spcBef>
                <a:spcPts val="1134"/>
              </a:spcBef>
              <a:buClr>
                <a:srgbClr val="000000"/>
              </a:buClr>
              <a:buSzPct val="75000"/>
              <a:buFont typeface="Symbol" charset="2"/>
              <a:buChar char=""/>
            </a:pPr>
            <a:r>
              <a:rPr b="0" lang="en-US" sz="1800" spc="-1" strike="noStrike">
                <a:solidFill>
                  <a:srgbClr val="262626"/>
                </a:solidFill>
                <a:latin typeface="Microsoft Sans Serif"/>
              </a:rPr>
              <a:t>Second Outline Level</a:t>
            </a:r>
            <a:endParaRPr b="0" lang="en-US" sz="1800" spc="-1" strike="noStrike">
              <a:solidFill>
                <a:srgbClr val="262626"/>
              </a:solidFill>
              <a:latin typeface="Microsoft Sans Serif"/>
            </a:endParaRPr>
          </a:p>
          <a:p>
            <a:pPr lvl="2" marL="1296000" indent="-288000">
              <a:spcBef>
                <a:spcPts val="850"/>
              </a:spcBef>
              <a:buClr>
                <a:srgbClr val="000000"/>
              </a:buClr>
              <a:buSzPct val="45000"/>
              <a:buFont typeface="Wingdings" charset="2"/>
              <a:buChar char=""/>
            </a:pPr>
            <a:r>
              <a:rPr b="0" lang="en-US" sz="1800" spc="-1" strike="noStrike">
                <a:solidFill>
                  <a:srgbClr val="262626"/>
                </a:solidFill>
                <a:latin typeface="Microsoft Sans Serif"/>
              </a:rPr>
              <a:t>Third Outline Level</a:t>
            </a:r>
            <a:endParaRPr b="0" lang="en-US" sz="1800" spc="-1" strike="noStrike">
              <a:solidFill>
                <a:srgbClr val="262626"/>
              </a:solidFill>
              <a:latin typeface="Microsoft Sans Serif"/>
            </a:endParaRPr>
          </a:p>
          <a:p>
            <a:pPr lvl="3" marL="1728000" indent="-216000">
              <a:lnSpc>
                <a:spcPct val="98000"/>
              </a:lnSpc>
              <a:spcBef>
                <a:spcPts val="567"/>
              </a:spcBef>
              <a:buClr>
                <a:srgbClr val="000000"/>
              </a:buClr>
              <a:buSzPct val="75000"/>
              <a:buFont typeface="Symbol" charset="2"/>
              <a:buChar char=""/>
            </a:pPr>
            <a:r>
              <a:rPr b="0" lang="en-US" sz="2800" spc="-1" strike="noStrike">
                <a:solidFill>
                  <a:srgbClr val="262626"/>
                </a:solidFill>
                <a:latin typeface="Microsoft Sans Serif"/>
              </a:rPr>
              <a:t>Fourth Outline Level</a:t>
            </a:r>
            <a:endParaRPr b="0" lang="en-US" sz="2800" spc="-1" strike="noStrike">
              <a:solidFill>
                <a:srgbClr val="262626"/>
              </a:solidFill>
              <a:latin typeface="Microsoft Sans Serif"/>
            </a:endParaRPr>
          </a:p>
          <a:p>
            <a:pPr lvl="4" marL="2160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Fifth Outline Level</a:t>
            </a:r>
            <a:endParaRPr b="0" lang="en-US" sz="2000" spc="-1" strike="noStrike">
              <a:solidFill>
                <a:srgbClr val="262626"/>
              </a:solidFill>
              <a:latin typeface="Microsoft Sans Serif"/>
            </a:endParaRPr>
          </a:p>
          <a:p>
            <a:pPr lvl="5" marL="2592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Sixth Outline Level</a:t>
            </a:r>
            <a:endParaRPr b="0" lang="en-US" sz="2000" spc="-1" strike="noStrike">
              <a:solidFill>
                <a:srgbClr val="262626"/>
              </a:solidFill>
              <a:latin typeface="Microsoft Sans Serif"/>
            </a:endParaRPr>
          </a:p>
          <a:p>
            <a:pPr lvl="6" marL="3024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Seventh Outline Level</a:t>
            </a:r>
            <a:endParaRPr b="0" lang="en-US" sz="20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www.qualcomm.com/research/research/university-relations/innovation-fellowship/2022-south-korea" TargetMode="External"/><Relationship Id="rId2" Type="http://schemas.openxmlformats.org/officeDocument/2006/relationships/hyperlink" Target="https://forms.gle/BDKuMEwTSAVaVKRS9" TargetMode="External"/><Relationship Id="rId3" Type="http://schemas.openxmlformats.org/officeDocument/2006/relationships/hyperlink" Target="mailto:innovation.award@qti.qualcomm.com" TargetMode="External"/><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03360"/>
            <a:ext cx="10275840" cy="1445400"/>
          </a:xfrm>
          <a:prstGeom prst="rect">
            <a:avLst/>
          </a:prstGeom>
          <a:noFill/>
          <a:ln w="0">
            <a:noFill/>
          </a:ln>
        </p:spPr>
        <p:txBody>
          <a:bodyPr lIns="0" rIns="0" tIns="0" bIns="0" anchor="b">
            <a:noAutofit/>
          </a:bodyPr>
          <a:p>
            <a:pPr indent="0">
              <a:lnSpc>
                <a:spcPct val="87000"/>
              </a:lnSpc>
              <a:buNone/>
            </a:pPr>
            <a:r>
              <a:rPr b="0" lang="en-US" sz="5400" spc="-1" strike="noStrike">
                <a:solidFill>
                  <a:srgbClr val="f7f8fa"/>
                </a:solidFill>
                <a:latin typeface="Qualcomm Next"/>
              </a:rPr>
              <a:t>Qualcomm Innovation Fellowship Korea 2022 - Applicant manual</a:t>
            </a:r>
            <a:endParaRPr b="0" lang="en-US" sz="5400" spc="-1" strike="noStrike">
              <a:solidFill>
                <a:srgbClr val="13161e"/>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8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Final session</a:t>
            </a:r>
            <a:endParaRPr b="0" lang="en-US" sz="3400" spc="-1" strike="noStrike">
              <a:solidFill>
                <a:srgbClr val="000000"/>
              </a:solidFill>
              <a:latin typeface="Microsoft Sans Serif"/>
            </a:endParaRPr>
          </a:p>
        </p:txBody>
      </p:sp>
      <p:sp>
        <p:nvSpPr>
          <p:cNvPr id="182"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Finalists will have presentation and poster session at QIFK 2022 final session day.</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After presentation session, all finalist have poster session</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ll session attendees, Qualcomm AI Research judges &amp; finalists, vote final 20 paper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Qualcomm AI Research’s ballot can have more weight than finalist’s.</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Max 20 papers will be chosen final</a:t>
            </a:r>
            <a:r>
              <a:rPr b="0" lang="en-US" sz="2100" spc="-1" strike="noStrike">
                <a:solidFill>
                  <a:srgbClr val="262626"/>
                </a:solidFill>
                <a:latin typeface="Qualcomm Next"/>
              </a:rPr>
              <a:t> scholarship receipt.</a:t>
            </a:r>
            <a:endParaRPr b="0" lang="en-US" sz="2100" spc="-1" strike="noStrike">
              <a:solidFill>
                <a:srgbClr val="262626"/>
              </a:solidFill>
              <a:latin typeface="Microsoft Sans Serif"/>
            </a:endParaRPr>
          </a:p>
        </p:txBody>
      </p:sp>
      <p:sp>
        <p:nvSpPr>
          <p:cNvPr id="183"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85"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Scholarship reward</a:t>
            </a:r>
            <a:endParaRPr b="0" lang="en-US" sz="3400" spc="-1" strike="noStrike">
              <a:solidFill>
                <a:srgbClr val="000000"/>
              </a:solidFill>
              <a:latin typeface="Microsoft Sans Serif"/>
            </a:endParaRPr>
          </a:p>
        </p:txBody>
      </p:sp>
      <p:sp>
        <p:nvSpPr>
          <p:cNvPr id="186"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Information of Finalist papers &amp; Selected max 20 papers (Paper title, author name and university) will be announced at QIFK &amp; Qualcomm web page.</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Qualcomm will send 4m KRW scholarship per paper to author’s university.</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Each author will receive scholarship via their university with university internal scholarship policy.</a:t>
            </a:r>
            <a:endParaRPr b="0" lang="en-US" sz="2100" spc="-1" strike="noStrike">
              <a:solidFill>
                <a:srgbClr val="262626"/>
              </a:solidFill>
              <a:latin typeface="Microsoft Sans Serif"/>
            </a:endParaRPr>
          </a:p>
        </p:txBody>
      </p:sp>
      <p:sp>
        <p:nvSpPr>
          <p:cNvPr id="187"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89"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Contact point </a:t>
            </a:r>
            <a:endParaRPr b="0" lang="en-US" sz="3400" spc="-1" strike="noStrike">
              <a:solidFill>
                <a:srgbClr val="000000"/>
              </a:solidFill>
              <a:latin typeface="Microsoft Sans Serif"/>
            </a:endParaRPr>
          </a:p>
        </p:txBody>
      </p:sp>
      <p:sp>
        <p:nvSpPr>
          <p:cNvPr id="190"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nnouncement channel : QIF 2022 Korea page</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u="sng">
                <a:solidFill>
                  <a:schemeClr val="accent1"/>
                </a:solidFill>
                <a:uFillTx/>
                <a:latin typeface="Qualcomm Next"/>
                <a:hlinkClick r:id="rId1"/>
              </a:rPr>
              <a:t>https://www.qualcomm.com/research/research/university-relations/innovation-fellowship/2022-south-korea</a:t>
            </a:r>
            <a:r>
              <a:rPr b="0" lang="en-US" sz="2100" spc="-1" strike="noStrike">
                <a:solidFill>
                  <a:schemeClr val="accent1"/>
                </a:solidFill>
                <a:latin typeface="Qualcomm Next"/>
              </a:rPr>
              <a:t> </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pply URL : </a:t>
            </a:r>
            <a:r>
              <a:rPr b="0" lang="en-US" sz="1800" spc="-1" strike="noStrike" u="sng">
                <a:solidFill>
                  <a:schemeClr val="accent1"/>
                </a:solidFill>
                <a:uFillTx/>
                <a:latin typeface="Qualcomm Next"/>
                <a:ea typeface="SimSun"/>
                <a:hlinkClick r:id="rId2"/>
              </a:rPr>
              <a:t>https://forms.gle/BDKuMEwTSAVaVKRS9</a:t>
            </a:r>
            <a:r>
              <a:rPr b="0" lang="en-US" sz="1800" spc="-1" strike="noStrike" u="sng">
                <a:solidFill>
                  <a:schemeClr val="accent1"/>
                </a:solidFill>
                <a:uFillTx/>
                <a:latin typeface="Qualcomm Next"/>
                <a:ea typeface="SimSun"/>
              </a:rPr>
              <a:t> </a:t>
            </a:r>
            <a:endParaRPr b="0" lang="en-US" sz="18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ea typeface="SimSun"/>
              </a:rPr>
              <a:t>Contact email : </a:t>
            </a:r>
            <a:r>
              <a:rPr b="0" lang="en-US" sz="2100" spc="-1" strike="noStrike" u="sng">
                <a:solidFill>
                  <a:srgbClr val="2853dc"/>
                </a:solidFill>
                <a:uFillTx/>
                <a:latin typeface="Qualcomm Next"/>
                <a:ea typeface="SimSun"/>
                <a:hlinkClick r:id="rId3"/>
              </a:rPr>
              <a:t>innovation.award@qti.qualcomm.com</a:t>
            </a:r>
            <a:r>
              <a:rPr b="0" lang="en-US" sz="2100" spc="-1" strike="noStrike">
                <a:solidFill>
                  <a:srgbClr val="2853dc"/>
                </a:solidFill>
                <a:latin typeface="Qualcomm Next"/>
                <a:ea typeface="SimSun"/>
              </a:rPr>
              <a:t>  </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p:txBody>
      </p:sp>
      <p:sp>
        <p:nvSpPr>
          <p:cNvPr id="191"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5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ualcomm Innovation Fellowship</a:t>
            </a:r>
            <a:endParaRPr b="0" lang="en-US" sz="3400" spc="-1" strike="noStrike">
              <a:solidFill>
                <a:srgbClr val="000000"/>
              </a:solidFill>
              <a:latin typeface="Microsoft Sans Serif"/>
            </a:endParaRPr>
          </a:p>
        </p:txBody>
      </p:sp>
      <p:sp>
        <p:nvSpPr>
          <p:cNvPr id="152" name="PlaceHolder 3"/>
          <p:cNvSpPr>
            <a:spLocks noGrp="1"/>
          </p:cNvSpPr>
          <p:nvPr>
            <p:ph/>
          </p:nvPr>
        </p:nvSpPr>
        <p:spPr>
          <a:xfrm>
            <a:off x="495360" y="1719000"/>
            <a:ext cx="112010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Qualcomm Innovation Fellowship (QIF) is global university relation program of Qualcomm and QIF Korea (QIFK) is scholarship program for excellent paper in AI, Machine learning and Autonomous driving research area in Korea universitie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For universities in Kore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Inception 2012 as Qualcomm Innovation Award program and renamed QIF Korea from 2020.</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Fulltime MS / PhD course student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Scholarship award : 4M KRW per selected paper.</a:t>
            </a:r>
            <a:endParaRPr b="0" lang="en-US" sz="2100" spc="-1" strike="noStrike">
              <a:solidFill>
                <a:srgbClr val="262626"/>
              </a:solidFill>
              <a:latin typeface="Microsoft Sans Serif"/>
            </a:endParaRPr>
          </a:p>
        </p:txBody>
      </p:sp>
      <p:sp>
        <p:nvSpPr>
          <p:cNvPr id="153"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55"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2022 Participating universities</a:t>
            </a:r>
            <a:endParaRPr b="0" lang="en-US" sz="3400" spc="-1" strike="noStrike">
              <a:solidFill>
                <a:srgbClr val="000000"/>
              </a:solidFill>
              <a:latin typeface="Microsoft Sans Serif"/>
            </a:endParaRPr>
          </a:p>
        </p:txBody>
      </p:sp>
      <p:sp>
        <p:nvSpPr>
          <p:cNvPr id="156" name="PlaceHolder 3"/>
          <p:cNvSpPr>
            <a:spLocks noGrp="1"/>
          </p:cNvSpPr>
          <p:nvPr>
            <p:ph/>
          </p:nvPr>
        </p:nvSpPr>
        <p:spPr>
          <a:xfrm>
            <a:off x="495360" y="1380600"/>
            <a:ext cx="11186640" cy="3876480"/>
          </a:xfrm>
          <a:prstGeom prst="rect">
            <a:avLst/>
          </a:prstGeom>
          <a:noFill/>
          <a:ln w="0">
            <a:noFill/>
          </a:ln>
        </p:spPr>
        <p:txBody>
          <a:bodyPr lIns="0" rIns="0" tIns="0" bIns="0" anchor="t">
            <a:noAutofit/>
          </a:bodyPr>
          <a:p>
            <a:pPr marL="173880" indent="-173880">
              <a:lnSpc>
                <a:spcPct val="107000"/>
              </a:lnSpc>
              <a:spcBef>
                <a:spcPts val="99"/>
              </a:spcBef>
              <a:buClr>
                <a:srgbClr val="3253dc"/>
              </a:buClr>
              <a:buFont typeface="Arial"/>
              <a:buChar char="•"/>
            </a:pPr>
            <a:r>
              <a:rPr b="0" lang="en-US" sz="2100" spc="-1" strike="noStrike">
                <a:solidFill>
                  <a:srgbClr val="262626"/>
                </a:solidFill>
                <a:latin typeface="Qualcomm Next"/>
              </a:rPr>
              <a:t>Open to : All Korea universities.</a:t>
            </a:r>
            <a:endParaRPr b="0" lang="en-US" sz="2100" spc="-1" strike="noStrike">
              <a:solidFill>
                <a:srgbClr val="262626"/>
              </a:solidFill>
              <a:latin typeface="Microsoft Sans Serif"/>
            </a:endParaRPr>
          </a:p>
          <a:p>
            <a:pPr marL="173880" indent="-173880">
              <a:lnSpc>
                <a:spcPct val="107000"/>
              </a:lnSpc>
              <a:spcBef>
                <a:spcPts val="99"/>
              </a:spcBef>
              <a:buClr>
                <a:srgbClr val="3253dc"/>
              </a:buClr>
              <a:buFont typeface="Arial"/>
              <a:buChar char="•"/>
            </a:pPr>
            <a:r>
              <a:rPr b="0" lang="en-US" sz="2100" spc="-1" strike="noStrike">
                <a:solidFill>
                  <a:srgbClr val="262626"/>
                </a:solidFill>
                <a:latin typeface="Qualcomm Next"/>
              </a:rPr>
              <a:t>Promotion universities : </a:t>
            </a:r>
            <a:endParaRPr b="0" lang="en-US" sz="21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eoul National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KAIST (Korea Advanced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POSTECH (Pohang University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GIST (Gwangju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UNIST (Ulsan National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Korea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Yonsei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Hanyang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ungkyunkwan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ungshin Women’s University</a:t>
            </a:r>
            <a:endParaRPr b="0" lang="en-US" sz="1600" spc="-1" strike="noStrike">
              <a:solidFill>
                <a:srgbClr val="262626"/>
              </a:solidFill>
              <a:latin typeface="Microsoft Sans Serif"/>
            </a:endParaRPr>
          </a:p>
          <a:p>
            <a:pPr lvl="2" marL="509760" indent="-162000">
              <a:lnSpc>
                <a:spcPct val="100000"/>
              </a:lnSpc>
              <a:spcBef>
                <a:spcPts val="99"/>
              </a:spcBef>
              <a:buClr>
                <a:srgbClr val="262626"/>
              </a:buClr>
              <a:buFont typeface="Microsoft Sans Serif"/>
              <a:buChar char="•"/>
            </a:pPr>
            <a:r>
              <a:rPr b="0" lang="en-US" sz="1300" spc="-1" strike="noStrike">
                <a:solidFill>
                  <a:srgbClr val="262626"/>
                </a:solidFill>
                <a:latin typeface="Qualcomm Next"/>
              </a:rPr>
              <a:t>More universities can be added after program managing policy update.</a:t>
            </a:r>
            <a:endParaRPr b="0" lang="en-US" sz="1300" spc="-1" strike="noStrike">
              <a:solidFill>
                <a:srgbClr val="262626"/>
              </a:solidFill>
              <a:latin typeface="Microsoft Sans Serif"/>
            </a:endParaRPr>
          </a:p>
        </p:txBody>
      </p:sp>
      <p:sp>
        <p:nvSpPr>
          <p:cNvPr id="157"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59"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160"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must be enrolled in a MS or PhD full-time course student for the entire 2022 – 2023 academic year in their university.</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a:t>
            </a:r>
            <a:r>
              <a:rPr b="0" lang="en-US" sz="2100" spc="-1" strike="noStrike" u="sng">
                <a:solidFill>
                  <a:srgbClr val="262626"/>
                </a:solidFill>
                <a:uFillTx/>
                <a:latin typeface="Qualcomm Next"/>
              </a:rPr>
              <a:t>must be the 1</a:t>
            </a:r>
            <a:r>
              <a:rPr b="0" lang="en-US" sz="2100" spc="-1" strike="noStrike" u="sng" baseline="30000">
                <a:solidFill>
                  <a:srgbClr val="262626"/>
                </a:solidFill>
                <a:uFillTx/>
                <a:latin typeface="Qualcomm Next"/>
              </a:rPr>
              <a:t>st</a:t>
            </a:r>
            <a:r>
              <a:rPr b="0" lang="en-US" sz="2100" spc="-1" strike="noStrike" u="sng">
                <a:solidFill>
                  <a:srgbClr val="262626"/>
                </a:solidFill>
                <a:uFillTx/>
                <a:latin typeface="Qualcomm Next"/>
              </a:rPr>
              <a:t> author of applied paper </a:t>
            </a:r>
            <a:r>
              <a:rPr b="0" lang="en-US" sz="2100" spc="-1" strike="noStrike">
                <a:solidFill>
                  <a:srgbClr val="262626"/>
                </a:solidFill>
                <a:latin typeface="Qualcomm Next"/>
              </a:rPr>
              <a:t>to the program</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If applied paper has co-1</a:t>
            </a:r>
            <a:r>
              <a:rPr b="0" lang="en-US" sz="2100" spc="-1" strike="noStrike" baseline="30000">
                <a:solidFill>
                  <a:srgbClr val="262626"/>
                </a:solidFill>
                <a:latin typeface="Qualcomm Next"/>
              </a:rPr>
              <a:t>st</a:t>
            </a:r>
            <a:r>
              <a:rPr b="0" lang="en-US" sz="2100" spc="-1" strike="noStrike">
                <a:solidFill>
                  <a:srgbClr val="262626"/>
                </a:solidFill>
                <a:latin typeface="Qualcomm Next"/>
              </a:rPr>
              <a:t> authors, all co-1</a:t>
            </a:r>
            <a:r>
              <a:rPr b="0" lang="en-US" sz="2100" spc="-1" strike="noStrike" baseline="30000">
                <a:solidFill>
                  <a:srgbClr val="262626"/>
                </a:solidFill>
                <a:latin typeface="Qualcomm Next"/>
              </a:rPr>
              <a:t>st</a:t>
            </a:r>
            <a:r>
              <a:rPr b="0" lang="en-US" sz="2100" spc="-1" strike="noStrike">
                <a:solidFill>
                  <a:srgbClr val="262626"/>
                </a:solidFill>
                <a:latin typeface="Qualcomm Next"/>
              </a:rPr>
              <a:t> authors must satisfy full-time student condition</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can submit </a:t>
            </a:r>
            <a:r>
              <a:rPr b="0" lang="en-US" sz="2100" spc="-1" strike="noStrike" u="sng">
                <a:solidFill>
                  <a:srgbClr val="262626"/>
                </a:solidFill>
                <a:uFillTx/>
                <a:latin typeface="Qualcomm Next"/>
              </a:rPr>
              <a:t>only one paper.</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The submit number counting is based on </a:t>
            </a:r>
            <a:r>
              <a:rPr b="0" lang="en-US" sz="2100" spc="-1" strike="noStrike" u="sng">
                <a:solidFill>
                  <a:srgbClr val="262626"/>
                </a:solidFill>
                <a:uFillTx/>
                <a:latin typeface="Qualcomm Next"/>
              </a:rPr>
              <a:t>the leftmost name </a:t>
            </a:r>
            <a:r>
              <a:rPr b="0" lang="en-US" sz="2100" spc="-1" strike="noStrike">
                <a:solidFill>
                  <a:srgbClr val="262626"/>
                </a:solidFill>
                <a:latin typeface="Qualcomm Next"/>
              </a:rPr>
              <a:t>at author list of paper.</a:t>
            </a:r>
            <a:endParaRPr b="0" lang="en-US" sz="2100" spc="-1" strike="noStrike">
              <a:solidFill>
                <a:srgbClr val="262626"/>
              </a:solidFill>
              <a:latin typeface="Microsoft Sans Serif"/>
            </a:endParaRPr>
          </a:p>
        </p:txBody>
      </p:sp>
      <p:sp>
        <p:nvSpPr>
          <p:cNvPr id="161"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Applicant qualification</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63"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164"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Basic domain : AI / Machine learning / Autonomous driving</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Recommend sub-area </a:t>
            </a:r>
            <a:r>
              <a:rPr b="0" lang="en-US" sz="1600" spc="-1" strike="noStrike">
                <a:solidFill>
                  <a:srgbClr val="ff0000"/>
                </a:solidFill>
                <a:latin typeface="Qualcomm Next"/>
              </a:rPr>
              <a:t>(It is not submission restriction, only recommended area)</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Signal processing / Speech recognition /Speaker recognition / Speech generation / Multi-modal context aware / Keyword spotting</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Computer vision / Image related area (ex : object detection, segmentation…)</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Anomaly detection / Adversarial attacks</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Supervised learning / Semi-supervised learning / Unsupervised learning / Few-shot learning / Federated learning / Continuous learning / Active learning / Life-long learning / Meta-Learning / Representation learning</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Modeling / Self-training / Domain adaptation / Knowledge transfer / Deep generative models / Model compression / Quantization / Optimization </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Neural Architecture / NLP / Application / Algorithm</a:t>
            </a:r>
            <a:endParaRPr b="0" lang="en-US" sz="16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p:txBody>
      </p:sp>
      <p:sp>
        <p:nvSpPr>
          <p:cNvPr id="165"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Research area</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67"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168"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Paper language : English only</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u="sng">
                <a:solidFill>
                  <a:srgbClr val="262626"/>
                </a:solidFill>
                <a:uFillTx/>
                <a:latin typeface="Qualcomm Next"/>
              </a:rPr>
              <a:t>Published paper only</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Publish date must be from </a:t>
            </a:r>
            <a:r>
              <a:rPr b="0" lang="en-US" sz="2100" spc="-1" strike="noStrike" u="sng">
                <a:solidFill>
                  <a:srgbClr val="262626"/>
                </a:solidFill>
                <a:uFillTx/>
                <a:latin typeface="Qualcomm Next"/>
              </a:rPr>
              <a:t>16</a:t>
            </a:r>
            <a:r>
              <a:rPr b="0" lang="en-US" sz="2100" spc="-1" strike="noStrike" u="sng" baseline="30000">
                <a:solidFill>
                  <a:srgbClr val="262626"/>
                </a:solidFill>
                <a:uFillTx/>
                <a:latin typeface="Qualcomm Next"/>
              </a:rPr>
              <a:t>th</a:t>
            </a:r>
            <a:r>
              <a:rPr b="0" lang="en-US" sz="2100" spc="-1" strike="noStrike" u="sng">
                <a:solidFill>
                  <a:srgbClr val="262626"/>
                </a:solidFill>
                <a:uFillTx/>
                <a:latin typeface="Qualcomm Next"/>
              </a:rPr>
              <a:t> Aug, 2021.</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Definition of ‘published’ :</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1. The paper is opened to web so anyone can search the paper via web-search such as arXiv.</a:t>
            </a:r>
            <a:endParaRPr b="0" lang="en-US" sz="18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2. Applicant agrees to open the contents and idea of the paper to anyone.</a:t>
            </a:r>
            <a:endParaRPr b="0" lang="en-US" sz="18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When paper applied to the program, </a:t>
            </a:r>
            <a:r>
              <a:rPr b="0" lang="en-US" sz="2100" spc="-1" strike="noStrike" u="sng">
                <a:solidFill>
                  <a:srgbClr val="262626"/>
                </a:solidFill>
                <a:uFillTx/>
                <a:latin typeface="Qualcomm Next"/>
              </a:rPr>
              <a:t>author list must be hidden </a:t>
            </a:r>
            <a:r>
              <a:rPr b="0" lang="en-US" sz="2100" spc="-1" strike="noStrike">
                <a:solidFill>
                  <a:srgbClr val="262626"/>
                </a:solidFill>
                <a:latin typeface="Qualcomm Next"/>
              </a:rPr>
              <a:t>for blind review.</a:t>
            </a:r>
            <a:endParaRPr b="0" lang="en-US" sz="2100" spc="-1" strike="noStrike">
              <a:solidFill>
                <a:srgbClr val="262626"/>
              </a:solidFill>
              <a:latin typeface="Microsoft Sans Serif"/>
            </a:endParaRPr>
          </a:p>
        </p:txBody>
      </p:sp>
      <p:sp>
        <p:nvSpPr>
          <p:cNvPr id="169"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Paper qualification</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7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Timeline</a:t>
            </a:r>
            <a:endParaRPr b="0" lang="en-US" sz="3400" spc="-1" strike="noStrike">
              <a:solidFill>
                <a:srgbClr val="000000"/>
              </a:solidFill>
              <a:latin typeface="Microsoft Sans Serif"/>
            </a:endParaRPr>
          </a:p>
        </p:txBody>
      </p:sp>
      <p:sp>
        <p:nvSpPr>
          <p:cNvPr id="172"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romotion : </a:t>
            </a:r>
            <a:r>
              <a:rPr b="0" lang="en-US" sz="2800" spc="-1" strike="noStrike">
                <a:solidFill>
                  <a:srgbClr val="2853dc"/>
                </a:solidFill>
                <a:latin typeface="Qualcomm Next"/>
              </a:rPr>
              <a:t>by June </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Applicant due date : </a:t>
            </a:r>
            <a:r>
              <a:rPr b="0" lang="en-US" sz="2800" spc="-1" strike="noStrike">
                <a:solidFill>
                  <a:srgbClr val="2853dc"/>
                </a:solidFill>
                <a:latin typeface="Qualcomm Next"/>
              </a:rPr>
              <a:t>mid Aug</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aper review : </a:t>
            </a:r>
            <a:r>
              <a:rPr b="0" lang="en-US" sz="2800" spc="-1" strike="noStrike">
                <a:solidFill>
                  <a:srgbClr val="2853dc"/>
                </a:solidFill>
                <a:latin typeface="Qualcomm Next"/>
              </a:rPr>
              <a:t>Sep</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resentation &amp; poster session : </a:t>
            </a:r>
            <a:r>
              <a:rPr b="0" lang="en-US" sz="2800" spc="-1" strike="noStrike">
                <a:solidFill>
                  <a:srgbClr val="2853dc"/>
                </a:solidFill>
                <a:latin typeface="Qualcomm Next"/>
              </a:rPr>
              <a:t>Nov</a:t>
            </a:r>
            <a:endParaRPr b="0" lang="en-US" sz="2800" spc="-1" strike="noStrike">
              <a:solidFill>
                <a:srgbClr val="262626"/>
              </a:solidFill>
              <a:latin typeface="Microsoft Sans Serif"/>
            </a:endParaRPr>
          </a:p>
          <a:p>
            <a:pPr indent="0">
              <a:lnSpc>
                <a:spcPct val="107000"/>
              </a:lnSpc>
              <a:spcBef>
                <a:spcPts val="1417"/>
              </a:spcBef>
              <a:buNone/>
            </a:pPr>
            <a:endParaRPr b="0" lang="en-US" sz="20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000" spc="-1" strike="noStrike">
                <a:solidFill>
                  <a:srgbClr val="262626"/>
                </a:solidFill>
                <a:latin typeface="Qualcomm Next"/>
              </a:rPr>
              <a:t>The timeline can be changed if it is needed</a:t>
            </a:r>
            <a:endParaRPr b="0" lang="en-US" sz="2000" spc="-1" strike="noStrike">
              <a:solidFill>
                <a:srgbClr val="262626"/>
              </a:solidFill>
              <a:latin typeface="Microsoft Sans Serif"/>
            </a:endParaRPr>
          </a:p>
          <a:p>
            <a:pPr indent="0">
              <a:lnSpc>
                <a:spcPct val="107000"/>
              </a:lnSpc>
              <a:spcBef>
                <a:spcPts val="1199"/>
              </a:spcBef>
              <a:buNone/>
            </a:pPr>
            <a:endParaRPr b="0" lang="en-US" sz="2800" spc="-1" strike="noStrike">
              <a:solidFill>
                <a:srgbClr val="262626"/>
              </a:solidFill>
              <a:latin typeface="Microsoft Sans Serif"/>
            </a:endParaRPr>
          </a:p>
        </p:txBody>
      </p:sp>
      <p:sp>
        <p:nvSpPr>
          <p:cNvPr id="173"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87440" y="1091520"/>
            <a:ext cx="11186640" cy="39650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Each applicant should submit an application by the specified deadline that must include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Paper – </a:t>
            </a:r>
            <a:r>
              <a:rPr b="0" lang="en-US" sz="2100" spc="-1" strike="noStrike" u="sng">
                <a:solidFill>
                  <a:srgbClr val="262626"/>
                </a:solidFill>
                <a:uFillTx/>
                <a:latin typeface="Qualcomm Next"/>
              </a:rPr>
              <a:t>hidden author lis</a:t>
            </a:r>
            <a:r>
              <a:rPr b="0" lang="en-US" sz="2100" spc="-1" strike="noStrike">
                <a:solidFill>
                  <a:srgbClr val="262626"/>
                </a:solidFill>
                <a:latin typeface="Qualcomm Next"/>
              </a:rPr>
              <a:t>t for blind review </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Signed copy of QIFK rules </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tabLst>
                <a:tab algn="l" pos="0"/>
              </a:tabLst>
            </a:pPr>
            <a:r>
              <a:rPr b="0" lang="en-US" sz="1800" spc="-1" strike="noStrike">
                <a:solidFill>
                  <a:srgbClr val="262626"/>
                </a:solidFill>
                <a:latin typeface="Qualcomm Next"/>
              </a:rPr>
              <a:t>If application is multiple number such as co-1</a:t>
            </a:r>
            <a:r>
              <a:rPr b="0" lang="en-US" sz="1800" spc="-1" strike="noStrike" baseline="30000">
                <a:solidFill>
                  <a:srgbClr val="262626"/>
                </a:solidFill>
                <a:latin typeface="Qualcomm Next"/>
              </a:rPr>
              <a:t>st</a:t>
            </a:r>
            <a:r>
              <a:rPr b="0" lang="en-US" sz="1800" spc="-1" strike="noStrike">
                <a:solidFill>
                  <a:srgbClr val="262626"/>
                </a:solidFill>
                <a:latin typeface="Qualcomm Next"/>
              </a:rPr>
              <a:t> authors, all applicant’s name should be signed at one copy</a:t>
            </a:r>
            <a:endParaRPr b="0" lang="en-US" sz="1800" spc="-1" strike="noStrike">
              <a:solidFill>
                <a:srgbClr val="262626"/>
              </a:solidFill>
              <a:latin typeface="Microsoft Sans Serif"/>
            </a:endParaRPr>
          </a:p>
          <a:p>
            <a:pPr indent="0">
              <a:lnSpc>
                <a:spcPct val="107000"/>
              </a:lnSpc>
              <a:spcBef>
                <a:spcPts val="1417"/>
              </a:spcBef>
              <a:buNone/>
              <a:tabLst>
                <a:tab algn="l" pos="0"/>
              </a:tabLst>
            </a:pPr>
            <a:endParaRPr b="0" lang="en-US" sz="18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Complete and sign Foreign Corrupt Practices Act (FCPA) Questionnaire</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tabLst>
                <a:tab algn="l" pos="0"/>
              </a:tabLst>
            </a:pPr>
            <a:r>
              <a:rPr b="0" lang="en-US" sz="1800" spc="-1" strike="noStrike">
                <a:solidFill>
                  <a:srgbClr val="262626"/>
                </a:solidFill>
                <a:latin typeface="Qualcomm Next"/>
              </a:rPr>
              <a:t>If an application has more than one authors, each author must complete and sign their own FCPA questionnaire.</a:t>
            </a:r>
            <a:endParaRPr b="0" lang="en-US" sz="1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pplicant information by application page request (Name, e-mail address and the other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fter submission, Qualcomm sends application number for managing notification</a:t>
            </a:r>
            <a:endParaRPr b="0" lang="en-US" sz="2100" spc="-1" strike="noStrike">
              <a:solidFill>
                <a:srgbClr val="262626"/>
              </a:solidFill>
              <a:latin typeface="Microsoft Sans Serif"/>
            </a:endParaRPr>
          </a:p>
          <a:p>
            <a:pPr indent="0">
              <a:lnSpc>
                <a:spcPct val="107000"/>
              </a:lnSpc>
              <a:spcBef>
                <a:spcPts val="1417"/>
              </a:spcBef>
              <a:buNone/>
              <a:tabLst>
                <a:tab algn="l" pos="0"/>
              </a:tabLst>
            </a:pPr>
            <a:endParaRPr b="0" lang="en-US" sz="2100" spc="-1" strike="noStrike">
              <a:solidFill>
                <a:srgbClr val="262626"/>
              </a:solidFill>
              <a:latin typeface="Microsoft Sans Serif"/>
            </a:endParaRPr>
          </a:p>
        </p:txBody>
      </p:sp>
      <p:sp>
        <p:nvSpPr>
          <p:cNvPr id="175" name="PlaceHolder 2"/>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76"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Application submission</a:t>
            </a:r>
            <a:endParaRPr b="0" lang="en-US" sz="34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87440" y="1091520"/>
            <a:ext cx="11186640" cy="39650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Qualcomm AI Research members review submitted papers with review criteria.</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fter paper review phase for submitted paper, max 40 papers will be selected next phase, presentation and poster session</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Review criteri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Innovative research ide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Clear understanding research area and realistic implementation</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Potential of research for further research</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Applicant strength</a:t>
            </a:r>
            <a:endParaRPr b="0" lang="en-US" sz="2100" spc="-1" strike="noStrike">
              <a:solidFill>
                <a:srgbClr val="262626"/>
              </a:solidFill>
              <a:latin typeface="Microsoft Sans Serif"/>
            </a:endParaRPr>
          </a:p>
        </p:txBody>
      </p:sp>
      <p:sp>
        <p:nvSpPr>
          <p:cNvPr id="178" name="PlaceHolder 2"/>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79"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Paper review</a:t>
            </a:r>
            <a:endParaRPr b="0" lang="en-US" sz="34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Qualcomm Corporate Public SIMPLIFIED Template Feb2022">
  <a:themeElements>
    <a:clrScheme name="Qualcomm 2022">
      <a:dk1>
        <a:srgbClr val="13161e"/>
      </a:dk1>
      <a:lt1>
        <a:srgbClr val="f7f8fa"/>
      </a:lt1>
      <a:dk2>
        <a:srgbClr val="0b2742"/>
      </a:dk2>
      <a:lt2>
        <a:srgbClr val="e71324"/>
      </a:lt2>
      <a:accent1>
        <a:srgbClr val="2853dc"/>
      </a:accent1>
      <a:accent2>
        <a:srgbClr val="7ba0ff"/>
      </a:accent2>
      <a:accent3>
        <a:srgbClr val="39a3b5"/>
      </a:accent3>
      <a:accent4>
        <a:srgbClr val="82cbd7"/>
      </a:accent4>
      <a:accent5>
        <a:srgbClr val="4a5a75"/>
      </a:accent5>
      <a:accent6>
        <a:srgbClr val="acbacf"/>
      </a:accent6>
      <a:hlink>
        <a:srgbClr val="3253dc"/>
      </a:hlink>
      <a:folHlink>
        <a:srgbClr val="7ba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b2742"/>
      </a:dk2>
      <a:lt2>
        <a:srgbClr val="e71324"/>
      </a:lt2>
      <a:accent1>
        <a:srgbClr val="2853dc"/>
      </a:accent1>
      <a:accent2>
        <a:srgbClr val="7ba0ff"/>
      </a:accent2>
      <a:accent3>
        <a:srgbClr val="39a3b5"/>
      </a:accent3>
      <a:accent4>
        <a:srgbClr val="82cbd7"/>
      </a:accent4>
      <a:accent5>
        <a:srgbClr val="4a5a75"/>
      </a:accent5>
      <a:accent6>
        <a:srgbClr val="acbacf"/>
      </a:accent6>
      <a:hlink>
        <a:srgbClr val="3253dc"/>
      </a:hlink>
      <a:folHlink>
        <a:srgbClr val="7ba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p:properties xmlns:p="http://schemas.microsoft.com/office/2006/metadata/properties" xmlns:xsi="http://www.w3.org/2001/XMLSchema-instance" xmlns:pc="http://schemas.microsoft.com/office/infopath/2007/PartnerControls">
  <documentManagement/>
</p:properties>
</file>

<file path=customXml/item3.xml><?xml version="1.0" encoding="utf-8"?>
<ct:contentTypeSchema xmlns:ct="http://schemas.microsoft.com/office/2006/metadata/contentType" xmlns:ma="http://schemas.microsoft.com/office/2006/metadata/properties/metaAttributes" ct:_="" ma:_="" ma:contentTypeName="Document" ma:contentTypeID="0x0101007FB15C0EAECE4740BB721ACD159AB9DD" ma:contentTypeVersion="13" ma:contentTypeDescription="Create a new document." ma:contentTypeScope="" ma:versionID="ae41bb683e842e19453e952a5b4a953e">
  <xsd:schema xmlns:xsd="http://www.w3.org/2001/XMLSchema" xmlns:xs="http://www.w3.org/2001/XMLSchema" xmlns:p="http://schemas.microsoft.com/office/2006/metadata/properties" xmlns:ns2="a242b818-c888-4fd8-8c48-022a9d3cb710" xmlns:ns3="1a076360-9b42-405f-a9a9-1bad76775d21" targetNamespace="http://schemas.microsoft.com/office/2006/metadata/properties" ma:root="true" ma:fieldsID="c50e7e8da1ec02ef7e5a3e2fc51cbb32" ns2:_="" ns3:_="">
    <xsd:import namespace="a242b818-c888-4fd8-8c48-022a9d3cb710"/>
    <xsd:import namespace="1a076360-9b42-405f-a9a9-1bad76775d21"/>
    <xsd:element name="properties">
      <xsd:complexType>
        <xsd:sequence>
          <xsd:element name="documentManagement">
            <xsd:complexType>
              <xsd:all>
                <xsd:element ref="ns2:MediaServiceMetadata" minOccurs="0"/>
                <xsd:element ref="ns2:MediaServiceFastMetadata" minOccurs="0"/>
                <xsd:element ref="ns3:SharedWithUsers" minOccurs="0"/>
                <xsd:element ref="ns3:SharedWithDetails" minOccurs="0"/>
                <xsd:element ref="ns2:MediaServiceAutoTags" minOccurs="0"/>
                <xsd:element ref="ns2:MediaServiceGenerationTime" minOccurs="0"/>
                <xsd:element ref="ns2:MediaServiceEventHashCode" minOccurs="0"/>
                <xsd:element ref="ns2:MediaServiceDateTaken" minOccurs="0"/>
                <xsd:element ref="ns2:MediaServiceLocation" minOccurs="0"/>
                <xsd:element ref="ns2:MediaServiceOCR" minOccurs="0"/>
                <xsd:element ref="ns2:MediaLengthInSeconds" minOccurs="0"/>
                <xsd:element ref="ns2:MediaServiceAutoKeyPoints" minOccurs="0"/>
                <xsd:element ref="ns2:MediaServiceKeyPoint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a242b818-c888-4fd8-8c48-022a9d3cb710" elementFormDefault="qualified">
    <xsd:import namespace="http://schemas.microsoft.com/office/2006/documentManagement/types"/>
    <xsd:import namespace="http://schemas.microsoft.com/office/infopath/2007/PartnerControls"/>
    <xsd:element name="MediaServiceMetadata" ma:index="8" nillable="true" ma:displayName="MediaServiceMetadata" ma:hidden="true" ma:internalName="MediaServiceMetadata" ma:readOnly="true">
      <xsd:simpleType>
        <xsd:restriction base="dms:Note"/>
      </xsd:simpleType>
    </xsd:element>
    <xsd:element name="MediaServiceFastMetadata" ma:index="9" nillable="true" ma:displayName="MediaServiceFastMetadata" ma:hidden="true" ma:internalName="MediaServiceFastMetadata" ma:readOnly="true">
      <xsd:simpleType>
        <xsd:restriction base="dms:Note"/>
      </xsd:simpleType>
    </xsd:element>
    <xsd:element name="MediaServiceAutoTags" ma:index="12" nillable="true" ma:displayName="Tags" ma:internalName="MediaServiceAutoTags" ma:readOnly="true">
      <xsd:simpleType>
        <xsd:restriction base="dms:Text"/>
      </xsd:simpleType>
    </xsd:element>
    <xsd:element name="MediaServiceGenerationTime" ma:index="13" nillable="true" ma:displayName="MediaServiceGenerationTime" ma:hidden="true" ma:internalName="MediaServiceGenerationTime" ma:readOnly="true">
      <xsd:simpleType>
        <xsd:restriction base="dms:Text"/>
      </xsd:simpleType>
    </xsd:element>
    <xsd:element name="MediaServiceEventHashCode" ma:index="14" nillable="true" ma:displayName="MediaServiceEventHashCode" ma:hidden="true" ma:internalName="MediaServiceEventHashCode" ma:readOnly="true">
      <xsd:simpleType>
        <xsd:restriction base="dms:Text"/>
      </xsd:simpleType>
    </xsd:element>
    <xsd:element name="MediaServiceDateTaken" ma:index="15" nillable="true" ma:displayName="MediaServiceDateTaken" ma:hidden="true" ma:internalName="MediaServiceDateTaken" ma:readOnly="true">
      <xsd:simpleType>
        <xsd:restriction base="dms:Text"/>
      </xsd:simpleType>
    </xsd:element>
    <xsd:element name="MediaServiceLocation" ma:index="16" nillable="true" ma:displayName="Location" ma:internalName="MediaServiceLocation" ma:readOnly="true">
      <xsd:simpleType>
        <xsd:restriction base="dms:Text"/>
      </xsd:simpleType>
    </xsd:element>
    <xsd:element name="MediaServiceOCR" ma:index="17" nillable="true" ma:displayName="Extracted Text" ma:internalName="MediaServiceOCR" ma:readOnly="true">
      <xsd:simpleType>
        <xsd:restriction base="dms:Note">
          <xsd:maxLength value="255"/>
        </xsd:restriction>
      </xsd:simpleType>
    </xsd:element>
    <xsd:element name="MediaLengthInSeconds" ma:index="18" nillable="true" ma:displayName="MediaLengthInSeconds" ma:hidden="true" ma:internalName="MediaLengthInSeconds" ma:readOnly="true">
      <xsd:simpleType>
        <xsd:restriction base="dms:Unknown"/>
      </xsd:simpleType>
    </xsd:element>
    <xsd:element name="MediaServiceAutoKeyPoints" ma:index="19" nillable="true" ma:displayName="MediaServiceAutoKeyPoints" ma:hidden="true" ma:internalName="MediaServiceAutoKeyPoints" ma:readOnly="true">
      <xsd:simpleType>
        <xsd:restriction base="dms:Note"/>
      </xsd:simpleType>
    </xsd:element>
    <xsd:element name="MediaServiceKeyPoints" ma:index="20" nillable="true" ma:displayName="KeyPoints" ma:internalName="MediaServiceKeyPoints" ma:readOnly="true">
      <xsd:simpleType>
        <xsd:restriction base="dms:Note">
          <xsd:maxLength value="255"/>
        </xsd:restriction>
      </xsd:simpleType>
    </xsd:element>
  </xsd:schema>
  <xsd:schema xmlns:xsd="http://www.w3.org/2001/XMLSchema" xmlns:xs="http://www.w3.org/2001/XMLSchema" xmlns:dms="http://schemas.microsoft.com/office/2006/documentManagement/types" xmlns:pc="http://schemas.microsoft.com/office/infopath/2007/PartnerControls" targetNamespace="1a076360-9b42-405f-a9a9-1bad76775d21" elementFormDefault="qualified">
    <xsd:import namespace="http://schemas.microsoft.com/office/2006/documentManagement/types"/>
    <xsd:import namespace="http://schemas.microsoft.com/office/infopath/2007/PartnerControls"/>
    <xsd:element name="SharedWithUsers" ma:index="10"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1" nillable="true" ma:displayName="Shared With Details"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Props1.xml><?xml version="1.0" encoding="utf-8"?>
<ds:datastoreItem xmlns:ds="http://schemas.openxmlformats.org/officeDocument/2006/customXml" ds:itemID="{0210BAEA-BD3B-46EE-997E-4CDE8C58D20D}">
  <ds:schemaRefs>
    <ds:schemaRef ds:uri="http://schemas.microsoft.com/sharepoint/v3/contenttype/forms"/>
  </ds:schemaRefs>
</ds:datastoreItem>
</file>

<file path=customXml/itemProps2.xml><?xml version="1.0" encoding="utf-8"?>
<ds:datastoreItem xmlns:ds="http://schemas.openxmlformats.org/officeDocument/2006/customXml" ds:itemID="{999E9A6A-F63C-4C15-976C-9B3ADA28CDED}">
  <ds:schemaRefs>
    <ds:schemaRef ds:uri="http://schemas.microsoft.com/office/2006/metadata/properties"/>
    <ds:schemaRef ds:uri="http://schemas.microsoft.com/office/infopath/2007/PartnerControls"/>
    <ds:schemaRef ds:uri="f17d804c-ffd2-440c-a951-bf93174a61b1"/>
  </ds:schemaRefs>
</ds:datastoreItem>
</file>

<file path=customXml/itemProps3.xml><?xml version="1.0" encoding="utf-8"?>
<ds:datastoreItem xmlns:ds="http://schemas.openxmlformats.org/officeDocument/2006/customXml" ds:itemID="{FB935315-AFF3-4E7D-AA60-A4CC1393A7F5}">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a242b818-c888-4fd8-8c48-022a9d3cb710"/>
    <ds:schemaRef ds:uri="1a076360-9b42-405f-a9a9-1bad76775d21"/>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docProps/app.xml><?xml version="1.0" encoding="utf-8"?>
<Properties xmlns="http://schemas.openxmlformats.org/officeDocument/2006/extended-properties" xmlns:vt="http://schemas.openxmlformats.org/officeDocument/2006/docPropsVTypes">
  <Template/>
  <TotalTime>20565</TotalTime>
  <Application>LibreOffice/7.4.7.2$Linux_X86_64 LibreOffice_project/40$Build-2</Application>
  <AppVersion>15.0000</AppVersion>
  <Words>840</Words>
  <Paragraphs>12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18:21:30Z</dcterms:created>
  <dc:creator>Duarte</dc:creator>
  <dc:description/>
  <dc:language>en-US</dc:language>
  <cp:lastModifiedBy>Jaewon Choi</cp:lastModifiedBy>
  <cp:lastPrinted>2016-03-18T23:07:30Z</cp:lastPrinted>
  <dcterms:modified xsi:type="dcterms:W3CDTF">2022-04-28T01:24:30Z</dcterms:modified>
  <cp:revision>5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FB15C0EAECE4740BB721ACD159AB9DD</vt:lpwstr>
  </property>
  <property fmtid="{D5CDD505-2E9C-101B-9397-08002B2CF9AE}" pid="3" name="Notes">
    <vt:r8>11</vt:r8>
  </property>
  <property fmtid="{D5CDD505-2E9C-101B-9397-08002B2CF9AE}" pid="4" name="PresentationFormat">
    <vt:lpwstr>와이드스크린</vt:lpwstr>
  </property>
  <property fmtid="{D5CDD505-2E9C-101B-9397-08002B2CF9AE}" pid="5" name="Slides">
    <vt:r8>13</vt:r8>
  </property>
  <property fmtid="{D5CDD505-2E9C-101B-9397-08002B2CF9AE}" pid="6" name="_NewReviewCycle">
    <vt:lpwstr/>
  </property>
  <property fmtid="{D5CDD505-2E9C-101B-9397-08002B2CF9AE}" pid="7" name="_dlc_DocIdItemGuid">
    <vt:lpwstr>9e101ccc-06e6-46d2-9169-41a11023d3eb</vt:lpwstr>
  </property>
</Properties>
</file>